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D866-9CA4-4F5E-8A00-A0F4F5EE6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22E7-D215-4970-A485-A777590F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219E-FA1F-4E19-86D5-A2630C4F8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2AC7-3B0D-429E-B426-B6AC61903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19FB-9F30-401B-B484-86BA3BD8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27AC-7A73-4F5F-B579-92157D2A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07E5-C934-4EC3-B20D-EC0BF395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57FB-7342-4487-95AD-EF10D600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6C41-E4D3-4409-B546-EE0DFED2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C7F9-A37A-4492-B9F1-7320F670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0E4E-2CAD-4300-9DFA-3CDDB919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3BD5-8BDD-4E32-84A4-71E3789A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23DC-4748-4B9B-8231-AB517CCAC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FUNCIONES SINTÁCTIC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A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mento de régimen verb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un sintagma preposi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preposición la que necesita el verbo para completa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on verbos como: confiar en, pensar en,  desconfiar d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ambién con verbos pronominales: acordarse de, desvivirse por, decidirse 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mento ag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 con verbos en voz pasiva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un sintagma preposicional con “po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hay que confundirlo con el complemento circunstancial de ca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 volver la oración a activa hace de sujeto agente de la a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JE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IERTA EN NÚMERO Y PERSONA CON EL VER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EDE ESTAR ELIDIDO U OMIT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Y ORACIONES IMPERSONALES QUE NO TIENEN SUJE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OS METEOROLÓ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BER NO AUXILIAR EN 3ª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OS “SER” Y “HACER” CON PALABRAS DE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FEMA IMPERSONAL “S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complementos del predicado nomi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atrib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ATRIBU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OS COPULATIVOS: SER , ESTAR, PARECER ( también pueden ser no copulativos cuando no lleven atribu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VERBO ES LA COPULA ENTRE EL SUJETO Y EL ATRIBUTO Y NO TIENE SIGNIFI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ATRIBUTO PUEDE S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sintagma adjet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sintagma no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sintagma preposicional equivalente a un ad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puede sustituir por “l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de al verbo a ¿cóm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complementos del verbo predica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ado ver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mento direc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 con verbos transi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sintagma nominal con un sustantivo o pronombre personal como núcle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mbién es un sintagma preposicional con “a” ( con animado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el que padece la acción del verbo y al convertir la oración en pasiva pasa a ser sujeto pac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puede sustituir por : lo, los, la ,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mento indir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la persona que se beneficia o daña con la acción del ver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mpre es un sintagma preposicional con “a” o un sintagma nominal con pronombre 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 volver la oración a pasiva queda con la misma f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puede sustituir por: le ,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e el leísmo tolerado con el masculino sing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mento circunstan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 un sintagma nominal, adverbial o preposicional que expresa una circunstancia del verb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empo ¿ cuán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o ¿ cóm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a ¿ por qu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o ¿con qué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ñía ¿ con quié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idad ¿ para qu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tidad ¿cuánt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gar ¿dónde? ¿ adónde? De dónd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por dónd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mento predica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refiere al sujeto o al complemento dir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ponde al verbo a ¿cóm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un sintagma adjetival o nomi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a con verbos semicopulativ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tribuyen una cualidad con el pensamiento, palabra, a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ambién va con el verbo: parecer, aparecer, nacer, llegar a ser, morir, permane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uede ir con otros verbos: ven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7T22:15:10Z</dcterms:created>
  <dc:creator>AUDIOLEASK</dc:creator>
  <dc:description/>
  <dc:language>en-US</dc:language>
  <cp:lastModifiedBy>AUDIOLEASK</cp:lastModifiedBy>
  <dcterms:modified xsi:type="dcterms:W3CDTF">2014-03-27T22:45:23Z</dcterms:modified>
  <cp:revision>2</cp:revision>
  <dc:subject/>
  <dc:title>LAS FUNCIONES SINTÁCTICAS </dc:title>
</cp:coreProperties>
</file>