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55016-ABE1-40D9-B96A-66B954482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C7BE4-75A9-4FB8-91A8-150CCD80E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A992F-EEAE-4413-95E2-0006FDC3B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1D5FA-7B3E-472A-BD7C-C93D86CA8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BB7D7-ED25-41EA-A401-1CB29FF1B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49016-F184-4D57-B33A-FFB912706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EC08B-4D81-4E81-91F0-90DA806AA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395DD-A090-42D9-A926-E8A823BC1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487E1-7321-402F-AA90-A5308AF0E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00241-067B-481C-9674-8201DD705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48FD4-1CF0-468A-A2EE-39D09FF24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4F0DA-7B47-4A0B-B3D8-B05F77CD8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DB8A8-BF2D-4CE8-B302-35A1E5E6B8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 FUNCIONES SINTÁCTICA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MA 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plemento de régimen verb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s un sintagma preposic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a preposición la que necesita el verbo para completar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on verbos como: confiar en, pensar en,  desconfiar de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También con verbos pronominales: acordarse de, desvivirse por, decidirse a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lemento agen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Va con verbos en voz pasiva norm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s un sintagma preposicional con “por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No hay que confundirlo con el complemento circunstancial de cau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l volver la oración a activa hace de sujeto agente de la ac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JETO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IERTA EN NÚMERO Y PERSONA CON EL VERB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EDE ESTAR ELIDIDO U OMITI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Y ORACIONES IMPERSONALES QUE NO TIENEN SUJE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BOS METEOROLÓG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BER NO AUXILIAR EN 3ª SING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BOS “SER” Y “HACER” CON PALABRAS DE TIEMP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FEMA IMPERSONAL “S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" dur="8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8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" dur="8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" dur="8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" dur="8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" dur="8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" dur="8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" dur="8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" dur="8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" dur="8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" dur="80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" dur="80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" dur="80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s complementos del predicado nomi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 atribu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 ATRIBU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BOS COPULATIVOS: SER , ESTAR, PARECER ( también pueden ser no copulativos cuando no lleven atribut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 VERBO ES LA COPULA ENTRE EL SUJETO Y EL ATRIBUTO Y NO TIENE SIGNIFIC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 ATRIBUTO PUEDE S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 sintagma adjetiv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 sintagma nomi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 sintagma preposicional equivalente a un adjet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 puede sustituir por “lo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ponde al verbo a ¿cómo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" dur="8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" dur="8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" dur="8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" dur="8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" dur="8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" dur="8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" dur="8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5" dur="8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" dur="8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" dur="8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" dur="8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" dur="8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8" dur="8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9" dur="8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" dur="8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5" dur="8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6" dur="8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" dur="8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2" dur="80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3" dur="80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" dur="80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9" dur="80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0" dur="80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" dur="80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s complementos del verbo predicativ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dicado verb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lemento directo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 con verbos transitiv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 un sintagma nominal con un sustantivo o pronombre personal como núcle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mbién es un sintagma preposicional con “a” ( con animado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 el que padece la acción del verbo y al convertir la oración en pasiva pasa a ser sujeto paci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 puede sustituir por : lo, los, la ,l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lemento indirec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 la persona que se beneficia o daña con la acción del verb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empre es un sintagma preposicional con “a” o un sintagma nominal con pronombre pers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 volver la oración a pasiva queda con la misma for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 puede sustituir por: le ,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iste el leísmo tolerado con el masculino singul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lemento circunstanci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 un sintagma nominal, adverbial o preposicional que expresa una circunstancia del verb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empo ¿ cuán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o ¿ cóm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usa ¿ por qué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mento ¿con qué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ñía ¿ con quié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alidad ¿ para qué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tidad ¿cuánto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ugar ¿dónde? ¿ adónde? De dónde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¿por dónde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lemento predicativ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e refiere al sujeto o al complemento direc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Responde al verbo a ¿cóm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s un sintagma adjetival o nomin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Va con verbos semicopulativ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tribuyen una cualidad con el pensamiento, palabra, ac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También va con el verbo: parecer, aparecer, nacer, llegar a ser, morir, permanec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Puede ir con otros verbos: ven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27T22:15:10Z</dcterms:created>
  <dc:creator>AUDIOLEASK</dc:creator>
  <dc:description/>
  <dc:language>en-US</dc:language>
  <cp:lastModifiedBy>AUDIOLEASK</cp:lastModifiedBy>
  <dcterms:modified xsi:type="dcterms:W3CDTF">2014-03-27T22:45:23Z</dcterms:modified>
  <cp:revision>2</cp:revision>
  <dc:subject/>
  <dc:title>LAS FUNCIONES SINTÁCTICAS </dc:title>
</cp:coreProperties>
</file>