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72C-A6B0-4E65-9E8C-9479BB8C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DA6-1522-428A-B0A3-F46CC22A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B8C-96D5-4BA1-A6A9-9F73B98E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4FB-5A5D-45A6-97C0-3252760C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C42-BF89-4960-BFD3-093F4812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A6D-D400-454D-8994-1E44BC28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1F3-67D1-4343-8563-40C55CD0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4A4-C28F-47AB-AB57-FC590790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D0D-8672-499D-865F-628665B4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730-CA85-4B0B-9BDB-09D0F11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687-D181-449F-B7C4-88DFEFCA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24F-1E88-43CF-BE1B-F0916FE0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DA33-2D5B-4C3E-A6A1-6BFFFB785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abras in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cionan palabras o grupos de palabras entre s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asa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ANTE,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, CO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, DES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,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IA , 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,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ÚN, SIN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TE , 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UCIONES PREPOSI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JO DE ( 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RO DE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MA DE (SO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VÉS DE (P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DIO DE (EN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1:55:51Z</dcterms:created>
  <dc:creator>AUDIOLEASK</dc:creator>
  <dc:description/>
  <dc:language>en-US</dc:language>
  <cp:lastModifiedBy>AUDIOLEASK</cp:lastModifiedBy>
  <dcterms:modified xsi:type="dcterms:W3CDTF">2014-02-20T22:05:41Z</dcterms:modified>
  <cp:revision>1</cp:revision>
  <dc:subject/>
  <dc:title>TEMA 7</dc:title>
</cp:coreProperties>
</file>