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2259-27F4-4663-99AC-47D455E6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61E6-C97F-4648-9090-99E6ECC3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EED7-2792-4C66-9257-5A135349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5ACE-5CF1-4E21-8588-139F7312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1A77-F92E-4CCB-A0DD-A08B42E2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930B-5A54-4850-B021-4F81A2FE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977D-108D-4D89-A55B-7DAB9063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B122-F679-4D00-835D-D4804351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8787-AC0F-4297-841F-58D8A46C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1CC6-BB84-479D-BC4B-2A84E2DE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583-836B-45EF-86ED-BF26E293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0093-43F4-41AA-B066-C34D6343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56EA-6556-47FF-8B83-69F669AFC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PREPOSI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PREPOS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abras in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cionan palabras o grupos de palabras entre s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 casa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PREPOS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 ANTE, 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, CON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, DES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, 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IA , H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, P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ÚN, SIN, S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TE , DUR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UCIONES PREPOSI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AJO DE ( BA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TRO DE (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IMA DE (SOB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AVÉS DE (PO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MEDIO DE (ENT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21:55:51Z</dcterms:created>
  <dc:creator>AUDIOLEASK</dc:creator>
  <dc:description/>
  <dc:language>en-US</dc:language>
  <cp:lastModifiedBy>AUDIOLEASK</cp:lastModifiedBy>
  <dcterms:modified xsi:type="dcterms:W3CDTF">2014-02-20T22:05:41Z</dcterms:modified>
  <cp:revision>1</cp:revision>
  <dc:subject/>
  <dc:title>TEMA 7</dc:title>
</cp:coreProperties>
</file>