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9247-3ED8-478B-8A01-B2228FB62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7E36-4F4D-4D43-8359-2798AEE5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C22A-C18E-44A7-BBAD-391224014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B92E-F0D3-40F7-A09E-EAA9F93B0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28AA-2511-4A49-BD3F-42231D75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1768-CB30-45A6-B639-6C486FB4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EB19-2535-4D02-9407-DF3DADA4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3F48-192D-4455-8E89-F7B54BDE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E72D-F76A-40D9-A881-E4204739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60BD-76BA-4A3B-AA09-6D5B9B33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047F-6235-4C22-8130-7622BF37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9BCE-513F-407F-979E-8B39112B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AD7D-FBA3-4CEA-B2D0-6E13F25D1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A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PREPOSI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PREPOS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abras in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cionan palabras o grupos de palabras entre s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 casa</a:t>
            </a: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 d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PREPOS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, ANTE, 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, CON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, DES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, EN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CIA , HA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, P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ÚN, SIN, SO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TE , DUR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UCIONES PREPOSI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AJO DE ( BAJ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TRO DE (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IMA DE (SOB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RAVÉS DE (PO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MEDIO DE (ENT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21:55:51Z</dcterms:created>
  <dc:creator>AUDIOLEASK</dc:creator>
  <dc:description/>
  <dc:language>en-US</dc:language>
  <cp:lastModifiedBy>AUDIOLEASK</cp:lastModifiedBy>
  <dcterms:modified xsi:type="dcterms:W3CDTF">2014-02-20T22:05:41Z</dcterms:modified>
  <cp:revision>1</cp:revision>
  <dc:subject/>
  <dc:title>TEMA 7</dc:title>
</cp:coreProperties>
</file>