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AAE0-EF7A-4347-9C38-4A3B0FABA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35D9-7E7A-4924-954A-9DF6EFDB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79EF-7A4B-4413-B581-D953A4091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D0BF-E98D-4B82-9D0C-653215181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C39F-0A27-4FAD-A1C9-F3D4566A0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33F7-C86F-4B2D-9D3D-84582697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3F3D-05AC-4BE4-9C21-3B89B37D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A34A-AF54-41C3-BC4C-BD0EDC39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7B35-DCC0-4FC1-A4A6-75282A4C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F503-72DD-42FB-AE68-179B0F28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DF2A6-78CC-4F09-8BB6-B2DF6FDA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F973-FF98-4208-8A37-52B796ED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DB1A-2F9E-4C62-BA13-13EC458F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1105C-4396-4D76-B550-8139EEBF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1DBF-7155-412C-9DA7-74A770DD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8CCB-75CF-4A9B-8E66-F5F49C84E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AAF3-FDA0-4431-85F9-B049ED656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BBC0-E05E-4EFD-A5EF-ED391BA7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6F30-4115-456E-9CD2-EA61A2B4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0C13-6E6C-4B20-A162-A89B04CE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B38F-1217-4BDA-BC9A-0F97637B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93F3-28DE-4A61-9A68-37A997AA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99EE-5FC5-46A2-8FB0-D9FF26BC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7410-3B5B-4D94-B511-1D127443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F789-368B-42C2-BD91-C711459EBDB3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1890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3817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4920" y="65088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JM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C3DB-687C-4C3E-A3FE-0372400FA5F4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EMA 7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 CUENTO DE LA LECHE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ARIEDADES TEXTUA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42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A CARTA COMERCIA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artas entre las empresas, empresas y particulares o vicevers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A CIRCU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odo escrito del que se hacen tantas copias como enví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ACTERÍSTICAS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 LAS CARTAS COMERCIALES 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lnSpc>
                <a:spcPct val="80000"/>
              </a:lnSpc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n de se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rmales: ni cultas ni coloquial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rrectas: respetan la gramática y ortografía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rectas: sintaxis sencill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ctuales: sin arcaísm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mocráticas: sin discriminacion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conómicas: no larg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33"/>
                </a:solidFill>
                <a:latin typeface="Garamond"/>
              </a:rPr>
              <a:t>TIPOS </a:t>
            </a:r>
            <a:br>
              <a:rPr sz="5100"/>
            </a:br>
            <a:r>
              <a:rPr b="0" lang="en-US" sz="5100" spc="-1" strike="noStrike">
                <a:solidFill>
                  <a:srgbClr val="006633"/>
                </a:solidFill>
                <a:latin typeface="Garamond"/>
              </a:rPr>
              <a:t>DE CARTAS COMERCIALES </a:t>
            </a:r>
            <a:endParaRPr b="0" lang="en-US" sz="5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lnSpc>
                <a:spcPct val="80000"/>
              </a:lnSpc>
              <a:spcBef>
                <a:spcPts val="8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fertas y publicidad de product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8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Reclamaciones a empresas o particular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8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edid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STRUCTURA 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DE UNA CARTA COMERCI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6633"/>
                </a:solidFill>
                <a:latin typeface="Arial"/>
              </a:rPr>
              <a:t>Presentació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atos de la persona o empresa que emite la car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ugar y fech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Nombre del destinatari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6633"/>
                </a:solidFill>
                <a:latin typeface="Arial"/>
              </a:rPr>
              <a:t>Cuerp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Salud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Asunto a trat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espedi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6633"/>
                </a:solidFill>
                <a:latin typeface="Arial"/>
              </a:rPr>
              <a:t>Cierr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Firm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Nombre del remiten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6633"/>
                </a:solidFill>
                <a:latin typeface="Arial"/>
              </a:rPr>
              <a:t>Notas, anexos, catálogos adjunt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8T21:13:31Z</dcterms:created>
  <dc:creator>AUDIOLEASK</dc:creator>
  <dc:description/>
  <dc:language>en-US</dc:language>
  <cp:lastModifiedBy>AUDIOLEASK</cp:lastModifiedBy>
  <dcterms:modified xsi:type="dcterms:W3CDTF">2014-02-20T20:08:27Z</dcterms:modified>
  <cp:revision>6</cp:revision>
  <dc:subject/>
  <dc:title>TEMA 7</dc:title>
</cp:coreProperties>
</file>