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3E6-266C-4B4B-AB57-4194CB9F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1CF-C049-4231-AF65-E94413A6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AC8-E350-4ADF-8F04-6FB5ECA9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617-F14B-4C88-9F3F-E0B8A2D8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5215-90FC-4C49-BFEB-77CD33B9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839A-5998-4182-A54B-F39C1D44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1879-A10B-4A2C-A39C-57CFC0A7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DCC8-B0A5-487C-BACD-379D4E9D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B04F-5545-4256-AE57-E4EE9C3A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2869-2D4C-4CF9-92F5-51DD6FF9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18D3-651A-49F4-BBAA-0A6066A5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931-D262-495A-ADDB-BFC118D5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1822-FD4E-4DDF-80AD-099454E5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1DC1-5563-4FA1-A2C4-910DC498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926E-D0BE-4D1E-B41B-3E5498D6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D9A1-7ED2-4623-8768-4FB35811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F586-34B6-49B9-9F0C-2876B4F8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A07-AD8F-4313-9223-D3DCF0D9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CF4-D845-48EC-822F-1F487445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3B6-1CA8-4DBB-AE4C-0292517C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ACB-4BC1-47EE-AFF4-F6BE9587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9E3-B049-45F7-B846-7B011EA5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898-F78C-4B82-9AC3-002F10D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B40-F4E8-488E-A280-C288EB81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DB39-7FC3-4C68-B502-A40B777C270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4987-5FDF-4BD5-AD25-700B66967FD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CUENTO DE LA LECH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ARIEDADES TEXTU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ARTA COMERC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tas entre las empresas, empresas y particulares o vicever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IRC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do escrito del que se hacen tantas copias como enví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ACTERÍSTICA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 LAS CARTAS COMERCIALES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 de s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males: ni cultas ni coloqu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rrectas: respetan la gramática y ortografí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as: sintaxis sencill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uales: sin arcaísm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mocráticas: sin discrimina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conómicas: no larg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TIPOS </a:t>
            </a:r>
            <a:br>
              <a:rPr sz="5100"/>
            </a:b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DE CARTAS COMERCIALES </a:t>
            </a: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ertas y publicidad de product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clamaciones a empresas o particula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ed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RUCTURA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 UNA CARTA COMER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Present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atos de la persona o empresa que emite la ca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ugar y fe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destinata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uerp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alu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sunto a trat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sped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ier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remit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Notas, anexos, catálogos adju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0:08:27Z</dcterms:modified>
  <cp:revision>6</cp:revision>
  <dc:subject/>
  <dc:title>TEMA 7</dc:title>
</cp:coreProperties>
</file>