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0E3-ACC3-4762-84E1-1B745683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28B-5F99-4590-BC1D-CEC8DCB8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033-9244-4667-909B-461D3B2B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F4B-752B-4D36-B946-3F3E4C5E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467C-F6DC-4A7E-8A18-027E994A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663C-B275-4F5C-97D7-0DDD2FCF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1319-E567-40C3-BB60-F3A0091E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0EF6-78B8-473F-A244-09420C90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279F-F75C-4AAC-8291-3D063EB4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C939-3BD7-4035-A1CE-1E4DDCC1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00FD-AACF-4091-A210-9D53651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EA9-6101-4200-9D01-31DE5CC0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0234-59B2-416F-AE62-AA859007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07D2-0EAA-454E-933B-FC27C3F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71AB-4DAF-42EB-8AB8-6C78815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90A4-6407-4921-949B-EA43DB7F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562B-FD11-4590-B40C-C60EA842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AC6-7AE6-480F-8664-9C3B58FA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E66-0B6F-40AE-8325-ABF60CC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8F8-A9B6-44A1-9825-5688AA5B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C8F-B0E4-4508-948D-49DD52A1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B74-ACAE-454F-AB40-40F0C152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013-6EE9-435A-9F47-9BCB9C6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0DC-A185-454F-9C2E-9881DC9A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BD1E-9C14-46E6-853A-F7283058E18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4AA5-1FFC-4DDA-9A0A-9639DDAB98F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ADVERBI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PREPOSICIONE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CONJU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ADVERB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abra in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 una circunstancia del ver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complementar a otro adverbio o a un adjetiv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intagma adverb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dos o más palabras funcionan de adverbio son LOCUCIONES ADVERB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CLASES </a:t>
            </a:r>
            <a:br>
              <a:rPr sz="26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DE ADVERBIOS  Y LOCUCIONES ADVERBIALE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graphicFrame>
        <p:nvGraphicFramePr>
          <p:cNvPr id="93" name=""/>
          <p:cNvGraphicFramePr/>
          <p:nvPr/>
        </p:nvGraphicFramePr>
        <p:xfrm>
          <a:off x="685800" y="1573200"/>
          <a:ext cx="7772400" cy="4867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uciones adverb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, allí, ahí, allá, acá, arriba, abajo, cerca, lejos, delante, detrás, encima, debajo, enfrente, atrá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final, a la cabeza, a la derecha, a la izquierda, al otro lad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s, después, pronto, tarde, temprano, todavía, aún, ya, ayer, hoy, mañana, siempre, nunca, jamás, próximamente, prontamente, anoche, enseguida, ahora, mientra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repente, de pronto, a menudo, al amanecer, al anochecer, en un periquete, con frecuencia, de tanto en tanto, a última hora, de vez en cuando, por la noche, por la mañana, por la tard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, mal, regular, despacio, deprisa, así, aprisa, como, adrede, peor, mejor, fielmente, estupendamente, fácil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abiendas, a tontas y a locas, a oscuras, sin más ni más, en resumen, a la buena de Dios, a ciegas, a la chita callando, de este modo, a las buenas, a las malas, por las buenas, por las malas, a manos llenas, de alguna manera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o, mucho, bastante, más, menos, algo, demasiado, casi, sólo, solamente, tan, tanto, todo, nada, aproximad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menos, con todo, más o menos, todo lo más, como máximo, como míni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irm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, también, cierto, ciertamente, efectivamente, claro, verdade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de luego, en verdad, en efecto, sin duda, sin ninguna duda, en realidad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, jamás, nunca, tampoc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ninguna manera, ni por ésas, ni mucho menos, ni por aso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zá, quizás, acaso, probablemente, posiblemente, segu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 vez, a lo mejor, puede qu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58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ADVERBIO/ ADJETIVO </a:t>
            </a:r>
            <a:br>
              <a:rPr sz="5100"/>
            </a:b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en –mente, derivados de un adjetivo calific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Libre        libre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m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jetivos calificativos convertidos en adverb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Habla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al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de cantidad iguales a adjetivos determinativos o pronombres indefin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o siento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much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1:45:46Z</dcterms:modified>
  <cp:revision>4</cp:revision>
  <dc:subject/>
  <dc:title>TEMA 7</dc:title>
</cp:coreProperties>
</file>