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67F-09ED-4383-BBC6-6A619C2E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DC4-2E4E-4812-AF89-1EEC1114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14EF-84A7-4F5E-888F-DFEA8B86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7F83-CCDB-4434-96FD-0F9D7E58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4425-7E54-4634-9D46-31B66F55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D9A0-1CBA-4E13-944E-29400ECE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7CD8-5CF9-4669-843C-41D396EE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F8A4-D899-461F-9BEF-B568CAB0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5A84-8BEB-4AE1-BD01-D0B7B78A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F31B-1975-4B1D-B78B-D6C16B29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E16A-72C8-4CF4-9056-67597768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C29D-3334-41BC-B6D3-F6049059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8152-E51B-4864-89D3-16F2B685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736E-161E-4C0E-B966-FCD0DAA0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BBEC-1F01-4B9F-9D57-FA439AB8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C34F-2432-4E1E-AE57-AF36E005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1182-427E-4974-A090-86E6946D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ECA-CB3E-45A6-818D-A8238B36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CC7-9720-430A-8513-99E63EB6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E23C-E5E5-4728-872B-8C099B97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1CC8-82DB-4FC6-A8BD-EFB1A2CA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346-751F-4867-8C11-663CA850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AC5-89CB-4382-A105-3EF63C71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9069-AA6C-4BE8-A2E1-6D088E31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9510-79FC-438E-B70A-383BB760850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F57F-3562-4011-9F21-7841B666631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MA 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ADVERBIO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PREPOSICIONE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CONJUN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L ADVERB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labra invar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ica una circunstancia del verb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ede complementar a otro adverbio o a un adjetiv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 núcleo de un sintagma adverbi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 dos o más palabras funcionan de adverbio son LOCUCIONES ADVERBI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CLASES </a:t>
            </a:r>
            <a:br>
              <a:rPr sz="2600"/>
            </a:b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DE ADVERBIOS  Y LOCUCIONES ADVERBIALES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graphicFrame>
        <p:nvGraphicFramePr>
          <p:cNvPr id="93" name=""/>
          <p:cNvGraphicFramePr/>
          <p:nvPr/>
        </p:nvGraphicFramePr>
        <p:xfrm>
          <a:off x="685800" y="1573200"/>
          <a:ext cx="7772400" cy="4867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erb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uciones adverb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g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quí, allí, ahí, allá, acá, arriba, abajo, cerca, lejos, delante, detrás, encima, debajo, enfrente, atrás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final, a la cabeza, a la derecha, a la izquierda, al otro lad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es, después, pronto, tarde, temprano, todavía, aún, ya, ayer, hoy, mañana, siempre, nunca, jamás, próximamente, prontamente, anoche, enseguida, ahora, mientras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repente, de pronto, a menudo, al amanecer, al anochecer, en un periquete, con frecuencia, de tanto en tanto, a última hora, de vez en cuando, por la noche, por la mañana, por la tard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en, mal, regular, despacio, deprisa, así, aprisa, como, adrede, peor, mejor, fielmente, estupendamente, fácil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abiendas, a tontas y a locas, a oscuras, sin más ni más, en resumen, a la buena de Dios, a ciegas, a la chita callando, de este modo, a las buenas, a las malas, por las buenas, por las malas, a manos llenas, de alguna manera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co, mucho, bastante, más, menos, algo, demasiado, casi, sólo, solamente, tan, tanto, todo, nada, aproximad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menos, con todo, más o menos, todo lo más, como máximo, como mínim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irm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í, también, cierto, ciertamente, efectivamente, claro, verdader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de luego, en verdad, en efecto, sin duda, sin ninguna duda, en realidad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, jamás, nunca, tampoc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ninguna manera, ni por ésas, ni mucho menos, ni por asom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zá, quizás, acaso, probablemente, posiblemente, segur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l vez, a lo mejor, puede qu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0" y="580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ADVERBIO/ ADJETIVO </a:t>
            </a:r>
            <a:br>
              <a:rPr sz="5100"/>
            </a:br>
            <a:endParaRPr b="0" lang="en-US" sz="5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verbios en –mente, derivados de un adjetivo calificativ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Libre        libre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m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jetivos calificativos convertidos en adverbi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Habla </a:t>
            </a: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al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verbios de cantidad iguales a adjetivos determinativos o pronombres indefini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Lo siento </a:t>
            </a: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much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33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21:13:31Z</dcterms:created>
  <dc:creator>AUDIOLEASK</dc:creator>
  <dc:description/>
  <dc:language>en-US</dc:language>
  <cp:lastModifiedBy>AUDIOLEASK</cp:lastModifiedBy>
  <dcterms:modified xsi:type="dcterms:W3CDTF">2014-02-20T21:45:46Z</dcterms:modified>
  <cp:revision>4</cp:revision>
  <dc:subject/>
  <dc:title>TEMA 7</dc:title>
</cp:coreProperties>
</file>