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40D2-E0A2-4CC1-9328-56861B5E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E316-FF2A-43B3-9924-29D3473C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11EE-B30F-4CD0-BD23-CCB84AD93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40C5-CDE5-4C48-8853-1255A0C2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93E5-28B8-4B53-9A43-C6BCB432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3EBD-E115-4C39-A8D9-04FEC908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38B1-41C3-439D-B330-CA6231D0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7903-56C7-45CB-B994-62AD2F25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91A4-61A5-4D4F-B7A7-99835715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A1A8-6F67-4101-BD10-4D7D75C7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0731-427C-4B82-9C84-BB1FF64F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EBD4-736E-41FA-B620-22F4BA6B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AEC6-5093-4157-96D0-0D7FEE0B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C206-4992-433F-BE71-95A301EB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C286-1EAF-4357-B654-82B53571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F892-FBA4-46C9-B5B0-88339179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9585-7EB8-4BC3-8422-A542EDB8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18C0-75CA-4CF5-B23A-00898176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B23E-5FAA-4F99-9F7F-95432BFF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CE35-A073-4073-B22A-09644A2D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045B-6C24-417A-86FD-7FE20010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8DA2-28F8-43C6-84B2-66623594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075F-8285-4013-A351-6AD6DDB8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BB24-5889-4B1F-9997-3DCDCFC3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BEDB-0C38-4B96-B7FD-69B7EDD64CEA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B6BA-D148-4640-BD04-ACBD28410B75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EL VERBO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MÁTICA TEMA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DEFINICIÓN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VERBO ES UNA CLASE DE PALABRA QUE EXPRESA DEL SUJE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 A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 PROCE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 EST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 NÚCLEO DE UN SV (PREDICAD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EDE LLEVAR COMPLEMEN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ESTRUCTURA DEL VERBO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EXEMA O RAÍZ VERB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 SIGNIFICAD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EMA (A,E,I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 CONJUGACIÓ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ORFEMA TEMPORAL-MOD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TIEMPO Y MOD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ESINENCIAS PERSONA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 PERSONA Y NÚMERO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ACCIDENTES GRAMATICALES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SONA : 1ª, 2ª Y 3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ÚMERO: SINGULAR Y PLU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EMPO: PRETÉRITO, PRESENTE, FUTURO Y CONDI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O: INDICATIVO, SUBJUNTIVO E IMPERA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PECTO: IMPERFECTO Y PERF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Z: ACTIVA Y PAS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FORMAS NO PERSONALES 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FINITIVO, COMO UN SUSTAN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MPLE: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AMAR, CORRER, VIV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UESTO: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HABER AMADO, CORR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GERUNDIO, COMO UN ADVERB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MPLE: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AMANDO, CORRIENDO, VIVI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UESTO: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HABIENDO AM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RTICIPIO, COMO UN ADJE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AM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LA CONJUGACIÓN VERBAL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OS DE CONJUGACIÓ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AR= 1ª CONJUG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R=2ª CONJUG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VIR= 3ª CONJUG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BOS REGULARES: NO VARÍA LA RAÍZ NI LOS MORFEMAS DE SU MODE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RREGULARES: VARÍA LA RAÍZ, MORFEMAS O AMB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NÚCLEO VERBAL CON 2 VERBOS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BOS EN FORMA COMPUEST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BER + PARTICIP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BO EN VOZ PASIV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+ PARTICIP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UCIÓN VERBA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BO+SN O S PRE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ÍFRASIS VERB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A PERSONAL+(NEXO)+FORMA NOMI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PERÍFRASIS VERBALES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DALES: Expresan la actitud del habl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 OBLIGACIÓN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ner que, haber de/que + infinitivo, deb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 PROBABILIDAD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ber de, poder+ infinitivo, venir a +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PECTUALES: Informan sobre el desarrollo de la ac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GRES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r a, estar a punto de+ 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CO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char a , romper a+ 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UR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tar, andar, llevar+gerund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SULT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jar de+ 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ITERATIVA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olver a +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45:04Z</dcterms:created>
  <dc:creator>AUDIOLEASK</dc:creator>
  <dc:description/>
  <dc:language>en-US</dc:language>
  <cp:lastModifiedBy>AUDIOLEASK</cp:lastModifiedBy>
  <dcterms:modified xsi:type="dcterms:W3CDTF">2014-02-11T20:41:46Z</dcterms:modified>
  <cp:revision>4</cp:revision>
  <dc:subject/>
  <dc:title>EL VERBO</dc:title>
</cp:coreProperties>
</file>