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6882-DA04-416C-94A1-9F14FEC40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7B94-C18E-46C6-BDBB-4B4E61BE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40DD-C577-4E84-B66F-3A350DF60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38E7-4ECE-47F9-814B-FFB3749D4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67F5-30A9-47C3-8C61-39A61972D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020E-E13C-4922-ADF4-ACB4AE55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0DA1-7EA8-4C33-B5FD-1F1E5AEB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26A1-B665-4914-8FC5-0C3AE179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DFFE-FF99-4B26-8159-13AE8474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48D1F-3BA0-49A7-AE43-74228890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6A11-2F13-48B4-B9B7-05A3E0B0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6267-19E1-4F68-AA31-20161CFF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2E36-296F-4944-9EC2-DC5F4637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68BD-B09A-4DDF-ACA9-23B4F73E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E60C-7EFF-4C23-A9F1-B1657D59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96C7-17C6-4E08-809A-7D2B8772E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437D-02F8-42C3-9EB2-AEECDF278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46D0-C75E-4B53-94DE-FB586716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C995-9AC4-4A9D-BFE7-399A0582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2BA9-6024-4B62-BC5B-90FFDCC3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89C9-4049-4157-9520-8581915B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2042-F3E4-41B5-9219-4B2F7808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5AFE-5032-40B8-9A00-6C4AEAF3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80CC-6975-476D-B5EA-B62D48D2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2765-5305-46B4-89C5-504DC4372A9B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189000"/>
            <a:ext cx="8229600" cy="609480"/>
          </a:xfrm>
          <a:prstGeom prst="pie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38172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4920" y="65088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JM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6433-7B3D-4D95-9ED5-5088597F7E1E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EL VERBO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AMÁTICA TEMA 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DEFINICIÓN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 VERBO ES UNA CLASE DE PALABRA QUE EXPRESA DEL SUJET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A AC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 PROCE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 EST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 NÚCLEO DE UN SV (PREDICAD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EDE LLEVAR COMPLEMEN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ESTRUCTURA DEL VERBO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EXEMA O RAÍZ VERB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( SIGNIFICAD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EMA (A,E,I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( CONJUGACIÓ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MORFEMA TEMPORAL-MODA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(TIEMPO Y MOD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DESINENCIAS PERSONAL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( PERSONA Y NÚMERO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ACCIDENTES GRAMATICALES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SONA : 1ª, 2ª Y 3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ÚMERO: SINGULAR Y PLUR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EMPO: PRETÉRITO, PRESENTE, FUTURO Y CONDIC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O: INDICATIVO, SUBJUNTIVO E IMPERAT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PECTO: IMPERFECTO Y PERFEC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Z: ACTIVA Y PAS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FORMAS NO PERSONALES 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NFINITIVO, COMO UN SUSTANT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IMPLE: </a:t>
            </a: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AMAR, CORRER, VIV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MPUESTO: </a:t>
            </a: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HABER AMADO, CORR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GERUNDIO, COMO UN ADVERB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IMPLE: </a:t>
            </a: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AMANDO, CORRIENDO, VIVI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MPUESTO: </a:t>
            </a: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HABIENDO AM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ARTICIPIO, COMO UN ADJET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AM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LA CONJUGACIÓN VERBAL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ELOS DE CONJUGACIÓ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AR= 1ª CONJUG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RER=2ª CONJUG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VIR= 3ª CONJUG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BOS REGULARES: NO VARÍA LA RAÍZ NI LOS MORFEMAS DE SU MODE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RREGULARES: VARÍA LA RAÍZ, MORFEMAS O AMB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Garamond"/>
              </a:rPr>
              <a:t>NÚCLEO VERBAL CON 2 VERBOS</a:t>
            </a:r>
            <a:endParaRPr b="0" lang="en-US" sz="3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BOS EN FORMA COMPUEST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BER + PARTICIP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BO EN VOZ PASIV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+ PARTICIP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CUCIÓN VERBA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BO+SN O S PRE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ÍFRASIS VERB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A PERSONAL+(NEXO)+FORMA NOMI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8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PERÍFRASIS VERBALES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ODALES: Expresan la actitud del habla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 OBLIGACIÓN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ner que, haber de/que + infinitivo, deb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 PROBABILIDAD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ber de, poder+ infinitivo, venir a +infiniti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SPECTUALES: Informan sobre el desarrollo de la ac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GRES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r a, estar a punto de+ infiniti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COAT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char a , romper a+ infiniti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URAT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star, andar, llevar+gerundi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SULTAT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jar de+ infiniti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ITERATIVA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olver a +infiniti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80"/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21:45:04Z</dcterms:created>
  <dc:creator>AUDIOLEASK</dc:creator>
  <dc:description/>
  <dc:language>en-US</dc:language>
  <cp:lastModifiedBy>AUDIOLEASK</cp:lastModifiedBy>
  <dcterms:modified xsi:type="dcterms:W3CDTF">2014-02-11T20:41:46Z</dcterms:modified>
  <cp:revision>4</cp:revision>
  <dc:subject/>
  <dc:title>EL VERBO</dc:title>
</cp:coreProperties>
</file>