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E25-7895-471F-8009-51D61100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02A-E7CA-47D8-9B05-33E05C9B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289-AC0B-4FAA-A62A-52A84203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E30-15D6-44DB-9AD7-17C2893C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FEDA-99A6-4779-B471-7AB547E5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3BF0-8FA0-4FD2-8EA3-75B305CC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5E04-9226-4087-A94C-0955F6CB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C9A9-3E88-400F-B916-F921C30E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816C-DEFB-48F3-966D-82753A69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C1A6-68E0-4474-96B7-42F83648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57D2-4497-4D9E-9035-70385E59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4F9-C858-47BF-B530-56FA1E13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E289-21EC-4B21-B9E2-4A52035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1307-BFAB-46A5-B304-BCFB7740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2D22-B0E7-44FB-AEFF-14B9B364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E8AF-9881-4DB2-A692-DDC355A4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462C-44FC-42C6-BD7A-01E017CD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7357-EA45-420C-B995-F878297A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F444-1BB1-43FE-879F-EE6AE179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C6ED-D246-4DEF-8C44-4B953F71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3016-D599-479A-AFA5-9899DD2F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903F-4EA6-41DF-9795-CB4C16F0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73F-4500-4EEC-8C93-21527676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0737D-C56C-4EA7-BBD5-6B8E8A49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9B5F-656E-4D22-A28C-9E454012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52CF-7C27-4995-9DF2-8B5D932A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A99E2-A038-4BDF-9513-C2A60E32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D1CC-6D9B-4FDA-B0D5-651B8E9F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A62D-26C8-498A-B0D2-5A1D1EEF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62B4-6FDA-40D5-A5B2-707F6306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4FB53-0EE5-45F1-B183-CF996D9B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E1FF7-6D36-4F4C-898A-02CFF1B9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2B090-7372-458E-98E9-2AD197C6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7A1-30D0-4783-BFF6-BD4A68B8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DFF28-E690-4C83-9722-6C166E51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2FB7A-CE9A-40A0-9F8C-10DEC1EB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DD1B6-9778-41B9-8B95-AE5A42EC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C9BE-44CD-4D84-8346-83C3ACF8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71E9-3A6D-46DB-85DF-9ADA30FF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4AFD4-3229-4BA0-8F7F-B1F91585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012E6-0706-4A8C-BAF0-98F6DA4E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4AFF9-ADEB-42FC-B574-34691D23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9FD5E-CB8D-4653-B804-E8919B55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D59DD-A7DC-4492-9138-4D9ADD9C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E8E-CB39-4C2D-BD60-6CC6E2A3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95697-8087-4C45-9673-D808092A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3FF13-3F81-4A29-B1A8-8BB31F55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49758-CB25-41DA-84E5-6A074420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4F310-1BE4-428B-BCD4-65BA44EE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7E43B-A949-4387-A3EF-AE2C0384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A4ED6-ED3A-4A61-BB1D-4BD079A5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A39A3-0E10-44CB-B2FF-A0328826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122FD-FDF2-4C24-95AE-8FDE1EEC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A4447-898A-4465-9AB2-8F380F2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B3331-8F71-4007-9E58-440DF99A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758-B72F-44DF-9B08-B14600F6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B24CE-4C14-4A95-872E-2CACF8BF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CF1-AD44-4C6D-A7A9-D5879EDC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5ED-E32B-4CFC-ADEE-A7305DC5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9E5-25D3-420F-95F9-8148B34D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4810-81C3-4F98-9289-1093AB51275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3022-D436-4C6E-A6F9-C59EE4401B7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11D2-9508-4751-A695-A00FE3F8C37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2E0D-F864-436B-8B7E-C842A8E313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EAAB-1894-4589-8E66-5787B7CEF9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RIEDADES TEXTU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17:56Z</dcterms:modified>
  <cp:revision>2</cp:revision>
  <dc:subject/>
  <dc:title>Diapositiva 1</dc:title>
</cp:coreProperties>
</file>