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B28-BE48-4B62-92D3-3E8D7746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FCD-8364-4383-AC80-DC7146D3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0EF-0A37-4071-8D7B-F2E9424A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9AA-D89E-44FF-8882-37F852DF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E274-2153-4F13-A35E-B0DD3CE0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65BB-CA05-448F-9D9B-019AFC45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927C-9214-4772-ABFF-7BF35355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10F6-44E3-4384-B676-A3835FF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BEEF-BCC4-4018-B987-CB77A377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D86B-1F09-49FB-B7D9-4203CEF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BD04-0F29-4CC7-BB6E-7B5A6E54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E62-5A41-4EC1-94FC-D2698DB2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80D6-AFAD-4324-B1F6-987D5CBC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8741-6548-4C21-B6CD-7FFD53CD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5A04-FD00-4326-BF76-363DACAA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9E9D-6DF9-4694-A800-E7BAC79B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DD52-D42D-4D5D-B7EB-B3460B9D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3872-088F-4394-9942-3869F213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9D6E-24C9-44C3-ACDD-B7A4EBBD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C37E-FEAE-43EB-916E-3570C03D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315D-199F-4AC2-A2C0-08051019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6B87-77A2-4D01-9B6E-9E5DE538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39E-7643-41A5-A487-FE35AEAE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C35C-CC40-4B83-AC34-78D8456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E2B0-B08A-46BD-988E-2C12C5B6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9914-EB97-44C0-896F-7C4DC55F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DACB-AC6C-4115-AF35-FBEBCAEB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8CBA-4000-4D64-8607-F1075AE4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B709C-D710-4424-8B40-7E8909D0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1E59-E82A-4B00-A0BC-4CB6687C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7D04-45E9-4485-9671-5CCF7B95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BF134-C9FF-4AC2-A9B8-C1BF756F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A766-4DC2-4C20-85B2-14813884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E03-AFB1-460F-B2F3-644227F3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A81A-6D1C-4C8D-B854-8829F14C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7F21-64F0-4CCC-947A-49481C74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7756-46BF-46E5-B946-C67DB42C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79B95-C5BC-454D-ADFA-7244CE15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5F24-9418-4D7C-9C48-D011B5BE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B0042-EFA6-4590-9BC6-F1C6F02B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BD844-2CED-48CB-8321-D3FF3749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517E-4023-45CF-990C-2191A7C4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B902-AAF7-4341-B34B-D7B33B34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A250-9551-4577-AB39-E9C74645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F4B-12BF-465F-AF20-0C92C073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0F65-0397-4301-8834-81170F2E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3773-73C9-460C-91E1-96640938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542A-FAF3-4CAB-8103-5761AB39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2782-A3A5-4D08-91F7-331544BB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49220-72E4-4F3B-82D3-095211F0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42A4A-6AB6-416D-9ED4-2C4D3BD9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23CD-8FFD-4674-87E5-8E564D19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8FF08-3C64-4A67-8091-0C3904D2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C5D3-F230-4210-9CC2-7C421C75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ADF3-0FAF-4B49-A7EC-1769EDB6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31D-B3CE-4A6C-BDC7-99FAC882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0888-1545-4610-9EFA-196C5C8E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FDB-AFD4-484F-BA4F-E104BC22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3CC-040E-4234-BE4C-E22D794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449-410E-4EC9-A329-AB08BDE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3606-8984-4C31-8A32-D2FE16FE727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CDA8-FA78-4E0A-B3CA-86D1F238B86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9189-2DFD-4E3F-847B-6813C4B16FB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CBAC-3DA2-485B-8067-4E3BD431EC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17E-7CAE-4F6D-A37E-E0DD012067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EDADES TEXT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17:56Z</dcterms:modified>
  <cp:revision>2</cp:revision>
  <dc:subject/>
  <dc:title>Diapositiva 1</dc:title>
</cp:coreProperties>
</file>