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AA7-A7E9-4A4B-80A9-EAA2DBB1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423-D488-4386-9CD5-A2FDF3AC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C7B-70EA-49FA-9437-3D100DA1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721-CEE3-4D65-B12F-66BD5F5C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D873-4A08-45AF-9725-1D6DF60E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CDB5-9A54-48BD-914D-0BAA924A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FC6E-EDDE-4ABB-964E-527544EC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B2E9-4477-4217-8128-B79FEDF9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F0C9-876B-49C2-BC34-F4543EF6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3B77-F123-4B67-9FBD-3C816397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E634-01E4-462D-BCAC-64EC5ED8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D88-D228-4BDA-9F0C-6791F8E1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5474-7938-48C8-B150-87D79097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B826-C2C7-4C83-A4A8-34507E1D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292A-A4E4-44D5-BF96-E52B4638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9592-CD99-4860-879F-AA0B6EF3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A281-3E22-432A-9EBE-D91D3E27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C6B-5D29-46BB-B49E-9C2FD610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04E-04FF-4A5E-AEB7-467A5014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189-EBD0-4075-AD2B-26A4EB45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274-851C-4A1A-B63A-E7EDCE61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2A7-02EC-468B-9AC5-58CC6CCD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B19-991D-4686-B910-35FE58E2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551-8B9F-4394-A9BA-7872B782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52B2-D5FC-445B-A91A-CD59717C29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0D97-E5A7-4FE1-AFD7-DE316C5D67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CABUL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ÁGINA 25 (1-2) Y 3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62440" cy="453060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TRUÍSTA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RO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NTERESA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DIVO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BNEGA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PRENDI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RRELACIÓN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RESPONDE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REDADO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ZAD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RICTO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IGUROS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HIBIENDO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STRAN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UADI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BLIG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 DOQUIE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 TODAS PAR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35280" y="1628640"/>
            <a:ext cx="5329440" cy="445464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CTÁREA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EDIDA DE CIEN ÁRE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LIOMOTO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TRANSFORMA LA ENERGÍA SOLAR EN MECÁ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MICICL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ITAD DEL CÍRCU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MORRAGI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ÉRDIDA GRANDE DE SANG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XAEDRO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UERPO LIMITADO POR SEIS CAR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DROAVIÓ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AVIÓN QUE PUEDE POSARSE SOBRE EL AGU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PERHIDROSI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SUDORACIÓN EXCESI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POGLUCEMIA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IVEL BAJO DE AZUCAR EN SANG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OMOGÉNE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ONJUNTO FORMADO POR ELEMENTOS IGU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21:27:02Z</dcterms:created>
  <dc:creator>AUDIOLEASK</dc:creator>
  <dc:description/>
  <dc:language>en-US</dc:language>
  <cp:lastModifiedBy>AUDIOLEASK</cp:lastModifiedBy>
  <dcterms:modified xsi:type="dcterms:W3CDTF">2013-11-10T21:46:40Z</dcterms:modified>
  <cp:revision>2</cp:revision>
  <dc:subject/>
  <dc:title>TEMA 2</dc:title>
</cp:coreProperties>
</file>