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BBF8-F9E4-4470-8A28-9C54350E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856E-4094-4F47-ACB1-AB178949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3522-BC4A-4840-8858-86D46FA1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79D-1A00-4A0E-A339-F89D0974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EE84-C5FD-42F9-BEEF-80A05004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B1D5-4F30-406D-BAC1-0765FB10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3E1B-71CC-4949-801E-5BFB2199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FFC4-155E-4E29-B0EC-B315D06B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C3EA-09B4-44E9-8FAE-FA96B21D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3DCA-2006-4811-B105-1E77F443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6F2A-A36E-441F-8518-9EC90692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10E-0A47-4DBA-BA01-45273DE9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20F6-0A34-4096-92BE-A69D2291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3D90-B2A9-43A5-9DFA-7AAE8DB3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F5B4-E644-4DF1-9ED0-466C9459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185E-77DB-416E-B6F1-D794F881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8276-4A1C-4DF3-80D1-4742928A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B23-0390-4B9A-BCA5-E733D21F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24B-45B6-4637-9EB7-483DD189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2B61-8E7E-4588-A10C-DB4E002E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B4D6-52BB-4289-86F8-E0837946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4BFD-74AC-4012-97F0-493C1398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8F6E-AA05-46CF-A019-70B50361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2FC-A94A-412A-A837-CB464C76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C944-2DF5-4AF0-AC71-4F93E061A0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F6E2-86A4-47A7-A0CE-5928CA4666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OCABULA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ÁGINA 25 (1-2) Y 3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962440" cy="453060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TRUÍSTA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NERO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NTERESA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DIVO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BNEGA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PRENDI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RRELACIÓN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RRESPONDEN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REDADO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ZAD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RICTO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IGUROS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HIBIENDO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STRAN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SUADI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BLIGA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 DOQUIE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R TODAS PAR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35280" y="1628640"/>
            <a:ext cx="5329440" cy="445464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CTÁREA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MEDIDA DE CIEN ÁRE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LIOMOTO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TRANSFORMA LA ENERGÍA SOLAR EN MECÁ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MICICL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MITAD DEL CÍRCUL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MORRAGI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ÉRDIDA GRANDE DE SANG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XAEDRO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UERPO LIMITADO POR SEIS CAR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DROAVIÓ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AVIÓN QUE PUEDE POSARSE SOBRE EL AGU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PERHIDROSI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SUDORACIÓN EXCESIV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POGLUCEMIA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NIVEL BAJO DE AZUCAR EN SANG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OMOGÉNE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ONJUNTO FORMADO POR ELEMENTOS IGUA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21:27:02Z</dcterms:created>
  <dc:creator>AUDIOLEASK</dc:creator>
  <dc:description/>
  <dc:language>en-US</dc:language>
  <cp:lastModifiedBy>AUDIOLEASK</cp:lastModifiedBy>
  <dcterms:modified xsi:type="dcterms:W3CDTF">2013-11-10T21:46:40Z</dcterms:modified>
  <cp:revision>2</cp:revision>
  <dc:subject/>
  <dc:title>TEMA 2</dc:title>
</cp:coreProperties>
</file>