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C0C-935C-45E0-B95D-FCBCDE05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BF3-6EA4-47CE-BDE0-6F548625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C6A-EE70-40F8-8D1B-A1D33E16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45E-E3DD-48DF-9EFE-04926AD5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FE6A-5AAC-4179-AB1E-72BF5970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8314-2A0E-456D-9BA8-0AFFD349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3C70-254F-43C4-BDE1-F4B5A784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3B6A-803D-4624-94AD-6FE02CA6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21A3-4F8C-4F97-A610-DC1A9CF7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A1FC-19C4-4201-AF2B-C5C746F9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B459-9D43-41C0-BB9D-EFD6CE21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A49-B14D-4DFD-8C83-D64EA195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6DBA-F94A-4F1D-ADC2-5BB65C60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2515-35EF-4B05-8F82-8D0D3C4B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3FC9-F187-4FA6-9857-DB4DDABB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0CEB-68E9-4C04-AE7D-6A0C87B2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EA2C-168E-4A88-8492-2F7895EB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45A-5B86-45D2-91F8-BB8ACDDE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BAA-67D3-4AC2-85C1-3A92A01A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E17-1131-42D3-B778-088C8077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7A8-04C2-4266-B913-D6D1D078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19A-5D4E-4F3E-9EB6-B94C7E37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FAB-5C03-4F95-930B-4BE3B24C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EBD-D1D0-4935-AEE5-D0399355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FFAE-0694-415B-A648-33EB306ABA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A448-A3F0-4969-AA32-EC1B61A363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CABUL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ÁGINA 25 (1-2) Y 3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62440" cy="453060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TRUÍSTA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RO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NTERESA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DIVO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BNEGA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PRENDI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RRELACIÓN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RESPONDE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REDADO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ZAD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RICTO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IGUROS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HIBIENDO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STRAN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UADI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BLIG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 DOQUIE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 TODAS PAR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35280" y="1628640"/>
            <a:ext cx="5329440" cy="445464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CTÁREA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EDIDA DE CIEN ÁRE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LIOMOTO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TRANSFORMA LA ENERGÍA SOLAR EN MECÁ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MICICL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ITAD DEL CÍRCU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MORRAGI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ÉRDIDA GRANDE DE SANG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XAEDRO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UERPO LIMITADO POR SEIS CAR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DROAVIÓ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AVIÓN QUE PUEDE POSARSE SOBRE EL AGU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PERHIDROSI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SUDORACIÓN EXCESI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POGLUCEMIA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IVEL BAJO DE AZUCAR EN SANG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OMOGÉNE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ONJUNTO FORMADO POR ELEMENTOS IGU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21:27:02Z</dcterms:created>
  <dc:creator>AUDIOLEASK</dc:creator>
  <dc:description/>
  <dc:language>en-US</dc:language>
  <cp:lastModifiedBy>AUDIOLEASK</cp:lastModifiedBy>
  <dcterms:modified xsi:type="dcterms:W3CDTF">2013-11-10T21:46:40Z</dcterms:modified>
  <cp:revision>2</cp:revision>
  <dc:subject/>
  <dc:title>TEMA 2</dc:title>
</cp:coreProperties>
</file>