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37AD-501B-4CA5-861E-6F845F247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488E-92C0-46E3-BF80-0E1018B83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0A47-2B4F-4982-B00F-43A632D02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2293-7EFB-4014-98F3-8EF2E8E37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9A4E6-25F0-4877-95CD-7421D5073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2A366-7A84-482C-88D1-D06D5F563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D9D38-5F4D-4F25-99A2-66703052A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20219-FA48-4BDA-8D75-426677BAF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ED6AB-0EBA-42D0-8766-0AE281563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04DA0-D746-4249-8561-423EACB9D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F5E55-B978-42ED-8535-99C32A0BF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FE78-8482-47DC-8C0F-886C9F697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B676A-1ECE-4A90-9255-220514A27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3F07F-8A3E-4F76-B918-6AE9132E0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106F1-EB4C-445B-BF74-8DAAE8330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5B646-73A9-4383-B95D-9C3C5F464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1891B-D17C-4096-9015-99E5C65D1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67784-D5B8-4588-964A-706C7E422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BF26C-44CA-4798-824C-9727AC982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3B89C-4631-479E-8857-436376061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7A160-ECFE-4212-B8DF-A12B470FD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24B6B-6FF6-47B8-8804-2097E6E10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29BE-A97E-4E6B-AD55-B4DC989D3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B497C-98D8-412B-B2F7-3A0BAF201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F7D49-54B3-4876-8BF5-F6046480D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9352D-AE67-4999-B511-53533DD04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C581A-BDA7-44F0-8CDC-24938C66A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8E3A0-6463-4DFB-8119-4C00E9830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C04AD-E6E4-4EF0-BA3D-801557610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F48E3-1ACB-4D14-8CE8-501B89894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0E2E5-D6F1-4144-811A-3413E214A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E452E-1CA6-4D78-9706-254924A8B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DA489-6022-416B-BAD6-DA4A3798C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DCF9-060D-4639-935E-844294E58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BE2CB-806E-45B5-86F2-CEE136B48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66993-3D5C-4E3D-BD6E-F2653E852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BF70F-109B-451F-9F43-58D30D28C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1B170-4156-49DA-A0BA-709D852BD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CF954-0723-4C91-9F80-298E0B21E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ED7D1-3E87-48C4-84C4-6CB1A2102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5EF65-9ED5-48C4-9A73-2D966A8FA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02944-02B9-48F7-B55B-23517CEBB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F5A70C-1728-4CC8-9C33-6E1C509D3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7BAD1D-B993-4362-9852-22E7CD7E4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6D33-9095-4084-9DAA-1A4DDB47F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C2D693-807B-470C-A31C-AA0FE68C3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19A279-A334-4419-95DA-B64EABEBA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FAC970-752C-4BAE-B761-EBF6376DA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5A095B-77E5-4F12-B601-5A946C42D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7F0C03-E5D7-4A96-9228-0F76A353D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40A009-3DB2-4450-AC31-19A23B49A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2FBB8D-9485-4C1A-8F65-A90A5C4D3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59955F-8545-4733-B5A7-DA5E9A1EB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581427-07DD-4960-8C84-BE29BC2C0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49B882-6E25-40F6-910E-A6F4F7DC7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E917-EF05-40B0-BD96-2E942E765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E3A456-A3AC-4B9F-AB79-0B7F37132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E34C-8A22-4CC2-B7F5-6DE72B843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4060-3B47-4BA9-AF60-0F752DBC1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5E11-A064-43FB-A565-A6F70C647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3E791-6431-4511-8F68-8F1D398B347E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1890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38172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34920" y="65088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</a:rPr>
              <a:t>JM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0BDFE-6DD7-48A2-850B-FED6256E1FF7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BAA7F-206A-43DA-8434-A8C064375B53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3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6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0E4F6-B3CC-475B-9E3D-CD1E60608A5A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1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4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AA731-74AF-4E8F-BC2B-CF5C6A79F3E8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EMA 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AMÁTIC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CLASES DE PALABRAS</a:t>
            </a:r>
            <a:br>
              <a:rPr sz="4000"/>
            </a:b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según significad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539640" y="2060640"/>
          <a:ext cx="8229600" cy="43491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84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LABRAS LÉXIC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MATICA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9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 SIGNIFICADO LÉXIC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 SIGNIFICADO SOLO GRAMATIC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STANTIVO (Laura, hijo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BO ( canta, salió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JETIVO CALIFICATIV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 pequeña, contenta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VERBIO ( muy, ayer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NOMBRE (ella, él, est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TERMINANTE ( su, u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POSICIÓN ( a, co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JUNCIÓN ( y, pero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JECCIÓN  (oh, caray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CLASES DE PALABRAS</a:t>
            </a:r>
            <a:br>
              <a:rPr sz="4000"/>
            </a:b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según for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324000" y="1773360"/>
          <a:ext cx="8424720" cy="4871880"/>
        </p:xfrm>
        <a:graphic>
          <a:graphicData uri="http://schemas.openxmlformats.org/drawingml/2006/table">
            <a:tbl>
              <a:tblPr/>
              <a:tblGrid>
                <a:gridCol w="2874600"/>
                <a:gridCol w="555012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XEMA O RAÍ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rta signific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 Mar en Mar-ino 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85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FEMAS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FLEXIVOS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modifican el signific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gnificado gramatical: género, núm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marin-o ; marin-a) (marino-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2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DERIVATIVOS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PREFIJOS: delante de raí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sub- marino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SUFIJOS: detrás de la raí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 mar-ino; mar-ítimo; mar-inero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CLASES DE PALABRAS</a:t>
            </a:r>
            <a:br>
              <a:rPr sz="4000"/>
            </a:b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según for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324000" y="1773360"/>
          <a:ext cx="8424720" cy="4816440"/>
        </p:xfrm>
        <a:graphic>
          <a:graphicData uri="http://schemas.openxmlformats.org/drawingml/2006/table">
            <a:tbl>
              <a:tblPr/>
              <a:tblGrid>
                <a:gridCol w="2376360"/>
                <a:gridCol w="6048360"/>
              </a:tblGrid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VARIAB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miten morfemas flexivos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 sustantivos, adjetivos, pronombres, verbos, determinante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VARIAB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llevan nunca morfemas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preposiciones, conjunciones, adverbio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jeccione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enen un solo lexema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Papeles, pisa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UEST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enen dos lexemas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 pisapapeles, sacacorcho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SINTAGM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1. Un sintagma 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una palabra o grupo de palabr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n sentido unitar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Que cumple una función en la fr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Y lleva obligatoriamente un NÚCLE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. CLASES DE SINTAGM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NTAGMA NOMINAL (SN) :su núcleo es un sustantivo o pronomb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NTAGMA VERBAL (SV) : su núcleo es un verb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NTAGMA ADJETIVAL ( S.Adj): núcleo un adjetiv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NTAGMA ADVERBIAL (S.Adv): núcleo es adverb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NTAGMA PREPOSICIONAL ( S.Prep): preposición (ENLACE) y sintagma nominal ( TÉRMIN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20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20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20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200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2000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2000"/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2000"/>
                                        <p:tgtEl>
                                          <p:spTgt spid="3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2000"/>
                                        <p:tgtEl>
                                          <p:spTgt spid="3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2000"/>
                                        <p:tgtEl>
                                          <p:spTgt spid="3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2000"/>
                                        <p:tgtEl>
                                          <p:spTgt spid="3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2000"/>
                                        <p:tgtEl>
                                          <p:spTgt spid="3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2000"/>
                                        <p:tgtEl>
                                          <p:spTgt spid="3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8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80"/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3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3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80"/>
                                        <p:tgtEl>
                                          <p:spTgt spid="3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3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3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80"/>
                                        <p:tgtEl>
                                          <p:spTgt spid="3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3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3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80"/>
                                        <p:tgtEl>
                                          <p:spTgt spid="3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3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3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3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3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3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80"/>
                                        <p:tgtEl>
                                          <p:spTgt spid="3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3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3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80"/>
                                        <p:tgtEl>
                                          <p:spTgt spid="3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FUNCIÓN DE LOS SINTAGMA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1. SUJETO   (SN)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u núcleo 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SzPct val="139058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un sustantivo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SzPct val="139058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pronombr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SzPct val="139058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una palabra sustantivad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2. PREDICADO  (SV)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u núcleo es el verb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3. COMPLEMENTO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omplementos del núcleo del sujeto: SN, Sadj. y S Pre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omplementos del núcleo del predicado: SN, S Adj. , S Adv. y  S Pre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omplementos del núcleo del sintagma adjetival: S Pre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omplementos del núcleo del sintagma adverbial: S Pre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8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8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2000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2000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2000"/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2000"/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2000"/>
                                        <p:tgtEl>
                                          <p:spTgt spid="3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2000"/>
                                        <p:tgtEl>
                                          <p:spTgt spid="3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2000"/>
                                        <p:tgtEl>
                                          <p:spTgt spid="3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2000"/>
                                        <p:tgtEl>
                                          <p:spTgt spid="30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2000"/>
                                        <p:tgtEl>
                                          <p:spTgt spid="30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2000"/>
                                        <p:tgtEl>
                                          <p:spTgt spid="30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0T18:51:45Z</dcterms:created>
  <dc:creator>AUDIOLEASK</dc:creator>
  <dc:description/>
  <dc:language>en-US</dc:language>
  <cp:lastModifiedBy>AUDIOLEASK</cp:lastModifiedBy>
  <dcterms:modified xsi:type="dcterms:W3CDTF">2013-11-10T21:26:48Z</dcterms:modified>
  <cp:revision>5</cp:revision>
  <dc:subject/>
  <dc:title>Diapositiva 1</dc:title>
</cp:coreProperties>
</file>