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C57F-3988-481D-9250-D6F5AADE7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8BFF-F83E-4ED1-AB44-06143327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9E3F-76AD-4171-8D84-C69831F63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EAD2-7CFF-47D2-B76B-7686C84C7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B746-2ECC-4B9D-9AC7-5C477A574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6C1A-DA7C-48DE-9A21-28FE95F5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30DE-AE4F-4B0E-AB2E-F585D4E3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7537-DC1E-4C06-AA56-F15D0E42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D6DB-0FDA-4071-A64F-0FB5DA27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FA39-2AD2-4544-A474-DC1AFD63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266E-F0ED-4248-9877-64D1B8FC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BEE9-8611-4258-9116-22D39448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C516-0E6F-47B9-8ECB-71D88462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7B0C-5E96-48BA-ACE9-AC1515DB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D8FD-C8DC-4236-AAE3-38CF1068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D111-44A7-461C-879C-8BFF0B3EC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FF48-886F-4CA4-AFBB-11BB6F4AB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3C767-7D88-4E4E-A5DA-E7AB3CAB0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12B41-5EFE-47BE-A6F0-3332C722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3175B-136B-44D3-9907-F0486360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47689-8C18-4CB9-9D26-DC28857B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C1C23-8DC7-493D-9C4E-060FE113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5487-0B82-4C0E-84E0-5BC5B967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5B5E0-6506-47A2-A29A-BF71A9A2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9DA20-1E4C-41E8-BFA4-83966648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7B420-E493-4C14-9128-551A4954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157E6-C7A6-4358-B952-0968B866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41B4D-5701-41FA-BE4C-F7B74443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042CE-14AE-479F-8E0B-362DD8C5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B317C-48E5-4A25-844F-3CED6ACD6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92CFF-EADB-4C13-AD90-78C39542E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8EA2E-EBD7-4FAC-9A30-74E7003F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756CF-822F-417B-8261-3485484A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DA3A-3D4A-458F-A5DC-0D92DC92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FAFAD-49BB-4FCB-8D7B-F1735048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641F7-BF16-40D0-AC5B-59F09D97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E5E8B-9F96-4B45-844C-2D8B8509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C9B45-8D97-489D-A87E-367F1D52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E78AC-4F2C-40B7-B976-667C5D3F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B6E41-A850-4255-ABCF-8B0DB4A0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E77A4-510F-40C0-9374-2E89CC0C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1E708-8891-4778-9B9A-0F5414554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4C2D5-52D7-46BF-A77D-92D7B2D4B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8971C-7AD3-4929-927C-D004E729C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891C-AD40-4F17-A411-AB5E4FC9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88172-9AE4-43F7-A00F-6A44DA5F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697E6-0016-40F8-9E49-9F4A4CFA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38CB2-277C-4A46-A1E9-21F7046C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40C92-9D05-401B-B592-63B56CF7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C604A-D44B-4E3F-9267-C80027B6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A0195-9119-478F-BA6B-C2FC6B53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49C7D-D917-461A-9F3B-470C2A36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62B27-2818-4662-92DB-0D20CBD0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E11FD-34E2-44D0-9053-C6DF66AE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3582D-7805-4A26-852A-AC26A64D7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5618-6531-4913-A056-BC743C5A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ADB20-A178-4097-B841-7C05AFA0D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7C46-9D01-4563-B450-D930F0DD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C5AB-4070-4809-B7CE-F86ABB2F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8300-5B34-43B1-8853-7702D352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7728-07E2-40E3-8F46-011A391D0CD8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890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3817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4920" y="65088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JM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B518-1E58-4B6A-8946-A5B0503F3143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AE93-D153-4989-9980-43305F7586F6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18AC-37B1-4251-A995-05193E6A4B7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1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2D27-6C95-4A16-B502-F058C2C8D05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EMA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MÁTIC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CLASES DE PALABRAS</a:t>
            </a:r>
            <a:br>
              <a:rPr sz="4000"/>
            </a:b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egún significa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539640" y="2060640"/>
          <a:ext cx="8229600" cy="4349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4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ABRAS LÉXIC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MATIC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 SIGNIFICADO LÉX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 SIGNIFICADO SOLO GRAMAT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STANTIVO (Laura, hijo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O ( canta, salió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JETIVO CALIFICA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pequeña, content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ERBIO ( muy, ay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NOMBRE (ella, él, est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ERMINANTE ( su, u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POSICIÓN ( a, c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JUNCIÓN ( y, pero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JECCIÓN  (oh, cara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CLASES DE PALABRAS</a:t>
            </a:r>
            <a:br>
              <a:rPr sz="4000"/>
            </a:b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egún for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324000" y="1773360"/>
          <a:ext cx="8424720" cy="4871880"/>
        </p:xfrm>
        <a:graphic>
          <a:graphicData uri="http://schemas.openxmlformats.org/drawingml/2006/table">
            <a:tbl>
              <a:tblPr/>
              <a:tblGrid>
                <a:gridCol w="2874600"/>
                <a:gridCol w="55501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XEMA O RAÍ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rta signific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Mar en Mar-ino 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85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FEMA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FLEXIVO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modifican el signific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ificado gramatical: género, nú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arin-o ; marin-a) (marino-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DERIVATIVOS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PREFIJOS: delante de raí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sub- marino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SUFIJOS: detrás de la raí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mar-ino; mar-ítimo; mar-inero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CLASES DE PALABRAS</a:t>
            </a:r>
            <a:br>
              <a:rPr sz="4000"/>
            </a:b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egún for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324000" y="1773360"/>
          <a:ext cx="8424720" cy="4816440"/>
        </p:xfrm>
        <a:graphic>
          <a:graphicData uri="http://schemas.openxmlformats.org/drawingml/2006/table">
            <a:tbl>
              <a:tblPr/>
              <a:tblGrid>
                <a:gridCol w="2376360"/>
                <a:gridCol w="604836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ARI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ten morfemas flexivos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sustantivos, adjetivos, pronombres, verbos, determinant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ARI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llevan nunca morfema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preposiciones, conjunciones, adverbi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jeccion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enen un solo lexema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Papeles, pis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UEST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enen dos lexema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pisapapeles, sacacorch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INTAGM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. Un sintagma 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a palabra o grupo de palab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 sentido unita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e cumple una función en la fr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Y lleva obligatoriamente un NÚCLE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. CLASES DE SINTAGM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TAGMA NOMINAL (SN) :su núcleo es un sustantivo o pronomb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TAGMA VERBAL (SV) : su núcleo es un verb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TAGMA ADJETIVAL ( S.Adj): núcleo un adjet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TAGMA ADVERBIAL (S.Adv): núcleo es adverb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TAGMA PREPOSICIONAL ( S.Prep): preposición (ENLACE) y sintagma nominal ( TÉRMIN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2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2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2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20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200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200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2000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2000"/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2000"/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2000"/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FUNCIÓN DE LOS SINTAGM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1. SUJETO   (SN)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u núcleo 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39058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un sustantiv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39058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pronombr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39058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una palabra sustantiva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2. PREDICADO  (SV)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u núcleo es el ver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3. COMPLEMENTO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mplementos del núcleo del sujeto: SN, Sadj. y S Pre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mplementos del núcleo del predicado: SN, S Adj. , S Adv. y  S Pre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mplementos del núcleo del sintagma adjetival: S Pre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mplementos del núcleo del sintagma adverbial: S Pre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2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20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200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2000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2000"/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2000"/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2000"/>
                                        <p:tgtEl>
                                          <p:spTgt spid="3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2000"/>
                                        <p:tgtEl>
                                          <p:spTgt spid="3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2000"/>
                                        <p:tgtEl>
                                          <p:spTgt spid="3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2000"/>
                                        <p:tgtEl>
                                          <p:spTgt spid="3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8:51:45Z</dcterms:created>
  <dc:creator>AUDIOLEASK</dc:creator>
  <dc:description/>
  <dc:language>en-US</dc:language>
  <cp:lastModifiedBy>AUDIOLEASK</cp:lastModifiedBy>
  <dcterms:modified xsi:type="dcterms:W3CDTF">2013-11-10T21:26:48Z</dcterms:modified>
  <cp:revision>5</cp:revision>
  <dc:subject/>
  <dc:title>Diapositiva 1</dc:title>
</cp:coreProperties>
</file>