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389-FF8F-43EB-B4F1-97DE9682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EC6-6783-4E90-80DF-229205D3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11A-E7E5-4535-8ACB-FF57A530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5FB-9573-4C26-9A9E-C1D80B6B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EEC0-CF62-44F3-B9AB-298A3D3E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E6F2-1220-4D00-B995-815E9EEA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EEEF-0437-4A8B-828D-EE028CB8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588E-0137-47A3-A37F-C13D26A3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A33A-E3D9-414C-B008-50C60705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A7AF-8447-4969-9BEA-F0D3AA1A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33D3-A894-4B44-AED0-AAC3D75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CF2-E88D-472C-B5B7-B3C21555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4F58-F315-4BB3-A16E-048F247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59A0-D1E1-4569-84F1-44F9C84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8892-62E5-4292-AE27-C0B62B5E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5B3D-9C65-44E2-8E73-1FA0DFAA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4CD2-EF12-410A-8C06-C30AA229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7C62-1E6F-4ED1-A756-0435E169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4B10-8752-42B6-864D-F1C3246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83CC-46D8-4F39-920A-541A39B3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3F7C-B4B7-4837-BB6B-7BB81C1C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C3A3-8E6F-44E0-92EA-41D3B604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C44-09E2-4978-A6DC-C4928717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2B8B-56F4-420D-87C5-8F80486F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9D5F-2AE6-41CC-BBCA-AD20096C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1544-B8C0-4A3F-8282-A6ACBAB6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1237-4D32-45F4-8EFA-D17D4F1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B96A-A038-4E8E-97E4-FE212BC1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F967-A01F-4B9A-A74B-87CD0DFD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1B93-5590-42BA-813B-C24B091B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D433-0424-4AE6-BEC2-F9C6096D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3CB62-6026-44B2-B132-C27F202C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F779-4F61-48E4-BF25-A13ECA89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C1D-82A6-4E5A-B0BD-BCFE523F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EB2C-9AF9-4A92-8445-D0437E32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D190D-F149-47C6-8A68-9B5A08AD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92990-573E-47A4-8B4B-E05278CF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982DE-691C-4801-B418-85C5D248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2335-A40E-4484-A61A-A0C68A4C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8942F-5931-4579-A7C7-4E5695F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7E7C3-4DBC-4113-BF48-BD8918AF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0C53-91E1-4B75-B928-82CA785C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7E29-F9B7-4CA9-8F87-98FAE41D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4C230-3968-4C3F-B347-1B798EAF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4CF-9FAE-44A5-A348-52067F78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5531F-E4A7-4E1E-A595-86548F8B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7C2E9-0FFA-4C0B-9408-D3254338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6AF1F-10B2-4008-8BE1-43D570C1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EB7F8-08A3-4D6E-BDEF-A5B9854A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D4C3-F03E-41EB-A7EF-665B4F02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9BE3B-6BEC-47C9-B75C-CED6E6F3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06B9C-ECF7-4A3A-933B-413C29D4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D122D-E1A2-4B9F-8A90-BBB310C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1B71-F984-4C48-9444-C0FE3B51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FA9B-C158-41CA-8AD3-F1579B09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260-9D22-475A-8DE0-294F1B46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BD2FC-1BE8-4521-BDD9-1AC69B93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3CC-6CCA-4A98-9C45-423DD9E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50C-ED95-4C04-B130-782BD795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7AA-4690-48AA-84E9-732E02C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820-B232-49C9-B18C-614878CCA8D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BCAB-98B0-429E-A77C-3D5437912BF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666C-3292-48EF-8545-EED7129C19F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F6CD-A22D-4C31-B75A-76C6F4C5E7D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956A-63C8-405F-BB8F-804899E641D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ÁT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signifi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9640" y="2060640"/>
          <a:ext cx="8229600" cy="434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BRAS LÉX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ATIC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L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SOLO GRAMA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NTIVO (Laura, hij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O ( canta, sali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TIVO CALIFI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equeña, conten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IO ( muy, ay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NOMBRE (ella, él, es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NTE ( su, u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CIÓN ( a, c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UNCIÓN ( y, p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ÓN  (oh, cara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24000" y="1773360"/>
          <a:ext cx="8424720" cy="4871880"/>
        </p:xfrm>
        <a:graphic>
          <a:graphicData uri="http://schemas.openxmlformats.org/drawingml/2006/table">
            <a:tbl>
              <a:tblPr/>
              <a:tblGrid>
                <a:gridCol w="2874600"/>
                <a:gridCol w="5550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XEMA O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rta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 en Mar-ino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LEXIVO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modifican el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 gramatical: género, 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rin-o ; marin-a) (marino-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ERIVATIVO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REFIJOS: delante de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 mari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SUFIJOS: detrás de la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-ino; mar-ítimo; mar-in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4000" y="1773360"/>
          <a:ext cx="8424720" cy="4816440"/>
        </p:xfrm>
        <a:graphic>
          <a:graphicData uri="http://schemas.openxmlformats.org/drawingml/2006/table">
            <a:tbl>
              <a:tblPr/>
              <a:tblGrid>
                <a:gridCol w="2376360"/>
                <a:gridCol w="604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ten morfemas flexivo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sustantivos, adjetivos, pronombres, verbos, determinan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llevan nunca 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reposiciones, conjunciones, adverbi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o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un solo lexem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apeles, pi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ES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dos lex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isapapeles, sacacorch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INTAG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Un sintagma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palabra o grupo de palab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 sentido 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cumple una función en la fr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lleva obligatoriamente un NÚCL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CLASES DE SINTAG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NOMINAL (SN) :su núcleo es un sustantivo o pro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VERBAL (SV) : su núcleo es un ver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JETIVAL ( S.Adj): núcleo un ad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VERBIAL (S.Adv): núcleo es adver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PREPOSICIONAL ( S.Prep): preposición (ENLACE) y sintagma nominal ( TÉRMI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UNCIÓN DE LOS SINTAG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1. SUJETO   (SN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 sustan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nomb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alabra sustantiv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. PREDICADO  (SV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 el ver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3. COMPLEMEN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ujeto: SN, Sadj. y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predicado: SN, S Adj. , S Adv. y 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jetival: S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verbial: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2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21:26:48Z</dcterms:modified>
  <cp:revision>5</cp:revision>
  <dc:subject/>
  <dc:title>Diapositiva 1</dc:title>
</cp:coreProperties>
</file>