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931-82BB-42BE-BAD3-4ACAAFD0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0C3-6A63-442B-A8E7-4D60334B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A7A-619A-4392-8618-33ECB0F4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6D6-9007-44CF-BD40-A5624549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27C4-17B9-48FB-ADBA-6D39133A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6D09-D83F-4A97-895B-56FE931E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360F-AB23-4A3A-974D-2A4B4F50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4D49-7E20-4924-A6A3-709E7816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A285-6441-41D5-82E7-B86BE28F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BBCC-BA03-489E-979A-7F4CB0F5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540E-68D9-46A9-84D8-7BCB62E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AE7-0F37-440B-86C6-16CC4A79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31BF-617D-4CA3-B287-1738442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6AF6-1971-4044-8DB6-956E2BB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85E6-D001-4CEC-B041-460815C4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538A-2759-4840-8841-6753DC22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62DB-8F93-4817-9D14-845620FF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0011-013C-45BC-B8F9-A2800A2B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CDD0C-6447-40CE-A2A2-9A351C55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EA7C-77BA-4B2C-AB05-CCC57239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E62C-19B2-48BE-A32D-31C84A12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0D46-17C4-4D33-9DD8-0F094A70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2F5-53D6-44A9-8428-58855630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BC68-BAF9-43AA-995B-2AD46E5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BC39-B0AD-43C3-A6AE-62C58D6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FAD9-545E-40FF-8266-DDC6C6E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53D9-8560-4150-B448-3E58440B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2CA4-7061-40A8-A843-21C8550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90D4-2901-4329-B6A8-BC440D62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4308-B7CC-48C4-9D46-DA52CFF0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AB52-013E-450F-971C-DACFC67F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CA47-5AB7-45C9-9F75-904B0F59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4FB93-44E4-4D09-B25E-F34820EA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D3F-B8A0-4DB1-98C5-737C9405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0105-7705-48EE-961F-3B23097D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EB3D9-F7EA-48F9-9AB8-2F5A34BD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AEA8-D184-4643-AEFD-04B9010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840B-82EB-4279-A5BA-28A8B284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46AC-00F8-40AE-9934-7CD55E5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70B8-4A97-4E81-BF87-4A347A3B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4A87-9524-4C19-B930-592C5160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85A0B-2009-4A87-8CEC-A6D1EAB8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6A29-DE26-4291-BF46-FD3C1CB4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F77-E368-4A24-9556-90ADFED3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F10-D442-46B3-9218-EA7B402F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7B2-988F-468D-A794-EF8A603C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EEE-1D31-4974-98FF-845AABD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544-E6FB-4C26-9587-6A761D4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ECFF-9212-4C49-805F-CB9293B220D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80A1-15C9-483B-A665-C07C26833E6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6073-3AA3-4F86-AB86-5F27C35F4BD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CAD-B454-4C60-88C9-D80A7D72E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DADES TEX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CIONES DEL LENGU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640720" cy="5379840"/>
        </p:xfrm>
        <a:graphic>
          <a:graphicData uri="http://schemas.openxmlformats.org/drawingml/2006/table">
            <a:tbl>
              <a:tblPr/>
              <a:tblGrid>
                <a:gridCol w="3095640"/>
                <a:gridCol w="237636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LE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JEMP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 SOBRE LA RE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L REL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AR PERIÓD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DEL QUE E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S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S DE ALEGRÍA, TRISTEZ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TA AL RECEPTOR A RESPO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PUBLICITARIOS, ORDEN, R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TICA O DE CON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 LA COMUN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  TELÉFONO, FRASES DE SALUDO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INGÜ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LA DEL PROPIO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LIBRO DE TEXTO DE LE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É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ACA LA FORMA DEL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OBRA DE ARTE, JUEGOS DE PALAB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34:41Z</dcterms:modified>
  <cp:revision>3</cp:revision>
  <dc:subject/>
  <dc:title>Diapositiva 1</dc:title>
</cp:coreProperties>
</file>