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73C-C19F-48CF-B4A4-4B69FDFA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448-55F3-4510-881F-AF617AFE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9ED-19A5-406D-AF9B-E9AA01A4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FE2-DFEA-4424-AD09-53D57729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CFD1-3D24-4177-A04A-3256C0B7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2F3C-7E8E-479F-A4A8-0D5A6B99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5E59-1B70-4BCF-A80A-1BFBA05A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657B-CE0D-41E5-BF38-22300D3A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3D6F-8988-4137-A9A4-7828C43B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01A9-1B40-4322-B034-7C3796DD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40B5-6357-41C2-8685-4850A63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A41-C835-4305-A44D-64C5B655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F59B-77B2-4A43-BE6F-6BE3175C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BA2E-B4C9-4355-BF84-733EAD70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75C5-BF23-49A9-B7E9-C7C4B9D2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D724-E4E6-4DF0-B7DA-294CEEDD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3D2A-A67B-47CA-9FA3-6DA42A17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07056-2EEF-4BF2-8CA6-48B60D75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1414A-90D8-412C-B30C-4752B538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ADC0-7D2C-4ABA-B2D3-25CA483E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95774-1BB3-40B4-A49E-079D3D8F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9D8A-F47A-4D2B-8752-0B80056C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35F-5EF3-4DFF-9E66-729C4179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0E1F-1E55-4A8C-8377-C81BC11A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21052-5BFC-4B21-858E-B04D80D1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1A6FD-9116-4A4F-925E-89F3948B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FE9A-5D1C-4A8E-9C77-00252F54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CC47-56D9-4120-853A-4438F436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337A-9B2E-4762-B297-BE1FD2F8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A8D9-A06F-43FE-80D2-7430F634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B5FAE-9925-4425-B58C-2740F937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E240D-778A-469C-8D22-43B63003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5D7C8-0C0B-4E3D-B16C-E21D7557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0770-A95C-4FFC-9773-20B21E7C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AB057-8DE7-4A31-8B8E-5C20FE3D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0095-2242-405E-A5E9-583FA85F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6659D-0A29-4B8E-BB2D-C025B7E2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051D6-C228-4325-BC4F-A4EE50EB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58DA-2761-458E-856D-1FBA62E6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19D00-CBD1-4D90-A758-7D910254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CD29-646F-4298-868D-03EE3345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8C7F2-7D4A-460B-8B39-23123988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8823A-B422-4E82-8BCD-BC8FE1CA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5C6-BB1C-4B19-ACB9-DECE2643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A5AE-667A-4EA5-AA52-939C3458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920-D813-4382-9EB2-F7F538F3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EA1-FFD4-4B07-93AB-F41894BE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43B-0F05-43BE-B8DB-8AACAAD3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7C49-A469-4067-B354-77DC3FEA4DC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4172-7D4E-4CAE-90AB-C2F6F419CC2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9254-5B75-43E5-939E-6B999DCC2B1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B931-BD14-44C2-8135-C07A15C02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DADES TEX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UNCIONES DEL LENGU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1413000"/>
          <a:ext cx="8640720" cy="5379840"/>
        </p:xfrm>
        <a:graphic>
          <a:graphicData uri="http://schemas.openxmlformats.org/drawingml/2006/table">
            <a:tbl>
              <a:tblPr/>
              <a:tblGrid>
                <a:gridCol w="3095640"/>
                <a:gridCol w="2376360"/>
                <a:gridCol w="316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UN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LE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JEMP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 SOBRE LA RE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DEL REL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AR PERIÓD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ÁNIMO DEL QUE EM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NS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OS DE ALEGRÍA, TRISTEZ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A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TA AL RECEPTOR A RESPO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S PUBLICITARIOS, ORDEN, RU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TICA O DE CONT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 LA COMUN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E  TELÉFONO, FRASES DE SALUDO,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INGÜ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LA DEL PROPIO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LIBRO DE TEXTO DE LEN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É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ACA LA FORMA DEL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OBRA DE ARTE, JUEGOS DE PALAB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34:41Z</dcterms:modified>
  <cp:revision>3</cp:revision>
  <dc:subject/>
  <dc:title>Diapositiva 1</dc:title>
</cp:coreProperties>
</file>