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4D29-1468-4FCE-BE09-D89663F59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4DF1-72F4-48E3-BFAD-254F91B09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351B-D8FE-40A2-A77B-14A051113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89E5-B0ED-4C31-AF6B-C545B8632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3881F-5E22-4B6B-8734-B44B82525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77319-09EB-4E5A-9BAE-D8ABB7CB2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A6351-2338-45E8-96DF-EDD7C6235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9BA01-251E-494B-9527-2F33A6A4F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78DC5-7989-442A-B41D-1E6034A5E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E18AE-6CE7-4F8A-ABDF-5A2203BA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88223-DD23-465D-9739-22A677C7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C0F5-F7C1-47E6-A4E8-DBF12BF39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02026-AD8D-4F0B-B711-5ABCD824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20B3D-79E9-43CA-AE0B-1D223585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A6A8A-EB09-49C4-B78D-C128A600C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11144-92D9-4B8E-8821-0050D082C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E32A0-768E-4425-B8B2-0CFF8C81F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2D5CC-3E6D-49B8-8076-1E29BB626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38AF7-7F71-42A3-B5F5-1A059B8BA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9BC46-767A-47AA-8CD9-566CC97B9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C2955-4A7E-41E4-AE98-0881D6C4A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EEFEE-DCBD-412F-AFA1-2E7D562B0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F4FB-C579-45CA-8CAC-4C0736ED9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B0D89-B0AF-4050-A95F-A8C5900E2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A7D4B-5AEE-4642-B4C7-0734B341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87D4C-7512-4731-83AD-E8A2D988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6C232-EFD4-4157-8B62-78B549BA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7B204-B2C4-44B2-B223-B783D0027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71867-05C6-4A35-A895-FF2BDAAF9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DA414-B197-4A37-8F15-802BBA113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A11F2-10A1-4C2C-A22B-8F3C739B8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5E8A7-8585-4483-AF2F-B8FDE5144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95CC0-494E-457C-B286-7D8C04F0A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AAD9-E34A-4694-B042-0A5345A61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235F1-E2BF-46E2-A507-A0A805563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93A4F-E4FD-4602-B556-3DC18B2E6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BDC98-A597-4507-A57A-6B958CCD0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EC74A-BAFA-4B41-97C1-1A110C48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B6BB4-41CC-4C36-83D2-FED31675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975B4-D2E5-4AFF-B9EE-C8390847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DE987-456E-4A8C-A578-F7FFBC2C5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E0C22-FAC0-43A2-83FD-F1DC58C9F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3D207-5D2E-4D9D-8798-390B3F75D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0D14-7CBC-4A9C-A082-0287ACA3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4A38-F62A-4CDD-A862-F071B5509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EA5F-1B11-4A4D-B7A6-CD270DDB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F2BF-5E66-431A-9CCE-0AE94366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C925-9F2B-4D5B-BB6D-C6BC9FAC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8098A-3B58-4E5A-82E1-DB963EE47968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1890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38172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34920" y="65088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JM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50939-C04B-4FAB-9DEB-D46ABF086816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2A7EF-E0A2-4EB9-B2AD-DB248ECD3BDD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2D70A-F58F-4EA4-AD28-A3C569655E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M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EDADES TEXTU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A COMUNIC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CAMBIO DE MENSA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NTE SIG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RE DOS O MÁS SE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 UNA INTENCIÓN DETERMIN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ORMAS DE COMUNIC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79280" y="2060640"/>
            <a:ext cx="87854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COMUNICACIÓN VER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EDIANTE SIGNOS LINGÜÍSTIC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RAL : DIÁLOGO, TERTULIA, DEBAT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CRITA: CARTA, DIARIO, NOTA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MEDIANTE SIGNOS NO LINGÜÍSTIC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ISUALES: DIBUJO, SÍMBOLO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ESTUALES: ABRAZO, MIRADA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UDITIVOS: TIMBRE, APLAUSOS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2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2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2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20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20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200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2000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ELEMENTOS DEL PROCESO COMUNICATIV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MISOR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ANSMITE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RECEPTOR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RECI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MENSAJE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 LA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ANAL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DIO POR EL QUE SE TRANSMI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NATURAL: SENTI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RTIFICIAL: TELÉFONO, TELEVISOR,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ÓDIGO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CONJUNTO DE SIGNOS, CON UNAS REGL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NOCIDAS  POR EMISOR Y RECEP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ONTEXTO O SITUACIÓN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IRCUNSTA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SPACIO, TIEMPO, CULTURA, …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2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2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20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20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20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2000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2000"/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2000"/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2000"/>
                                        <p:tgtEl>
                                          <p:spTgt spid="1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2000"/>
                                        <p:tgtEl>
                                          <p:spTgt spid="17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2000"/>
                                        <p:tgtEl>
                                          <p:spTgt spid="17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FUNCIONES DEL LENGUA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324000" y="1413000"/>
          <a:ext cx="8640720" cy="5379840"/>
        </p:xfrm>
        <a:graphic>
          <a:graphicData uri="http://schemas.openxmlformats.org/drawingml/2006/table">
            <a:tbl>
              <a:tblPr/>
              <a:tblGrid>
                <a:gridCol w="3095640"/>
                <a:gridCol w="2376360"/>
                <a:gridCol w="3168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FUN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LEMEN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JEMPL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RESENTA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 SOBRE LA REA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EX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RAS DEL RELO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ULAR PERIÓD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RES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DO DE ÁNIMO DEL QUE EMI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MENSA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IS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OS DE ALEGRÍA, TRISTEZA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LAMA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ELA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ITA AL RECEPTOR A RESPON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P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SAJES PUBLICITARIOS, ORDEN, RUE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ÁTICA O DE CONTAC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BLECE LA COMUNIC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BRE  TELÉFONO, FRASES DE SALUDO,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LINGÜÍS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BLA DEL PROPIO LENGUA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ÓDI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ALQUIER LIBRO DE TEXTO DE LENGU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É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TACA LA FORMA DEL LENGUA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S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ALQUIER OBRA DE ARTE, JUEGOS DE PALABR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0T18:51:45Z</dcterms:created>
  <dc:creator>AUDIOLEASK</dc:creator>
  <dc:description/>
  <dc:language>en-US</dc:language>
  <cp:lastModifiedBy>AUDIOLEASK</cp:lastModifiedBy>
  <dcterms:modified xsi:type="dcterms:W3CDTF">2013-11-10T19:34:41Z</dcterms:modified>
  <cp:revision>3</cp:revision>
  <dc:subject/>
  <dc:title>Diapositiva 1</dc:title>
</cp:coreProperties>
</file>