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9AD5-E3E4-4274-A4AB-72AEF825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27CC-A385-4D0D-8F42-EAAB56F5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203-1D22-4019-AC13-45E22A5E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F17-B04D-434F-956F-381561D8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0C32-44B5-4BAA-82B8-231B0922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24D9-B7CB-45EB-8337-69378D6C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202B-E899-4910-BB48-E0980B31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6FD4-0C93-4766-90FB-A84EA9C6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92F6-97C7-4160-A75E-D58914E6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28BE-5120-46DE-A125-F0967A17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84B0-65E9-4946-A578-C2035C30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8B3-B21F-468A-BD30-4A773EBC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97BD-3279-44E1-9165-0B30BA56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5BF5-E900-4342-A316-2FD4D789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457A-E7BC-43D0-854C-301A7FD2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7CA5-C4FC-4A2C-9335-3913F664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4924-6D51-4704-A192-870B9F6D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086D2-B031-4BEC-A8C9-9D774F0A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F1CD3-B5AE-4E27-86EC-9CBDFCA0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DB8D0-1A1A-475C-9206-4436A0EB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B7FC5-FB37-4727-B8A4-131D2266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4327F-0A2A-4120-B0F9-74736EA8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634-F81C-4044-B0CA-2E7F612A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A705F-F4F9-43E3-94E8-7220DC1C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FCCD0-8315-4007-874A-7912043B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2CDF6-B371-413F-9721-F0B560A5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27F69-160F-454F-9D7C-E44389C4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BC767-0CFD-4EF0-ADA9-CC31407A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AD54E-5962-4E31-9BAA-98896B4D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42DEA-F762-440F-B7D7-50A8667D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CA277-7344-4C69-9FD8-FC4C1397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18594-71A4-4AF4-A087-F2C741FA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88935-4033-4BDD-BEB5-C672FD3D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1A2-F7DC-4227-9F55-234FB236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E10FF-4CC7-4AA5-9A24-EE846BCB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BC780-C257-464C-AC71-E06BB20A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713C3-C40C-41D3-A84D-BF6D7C93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1C1C5-6CDA-4623-84E1-42F564DB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F0779-12AE-4D31-883C-B7E1B54F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5BFD0-FA44-4F0D-B526-E350FDAF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1244A-07B8-426D-AD0B-8E3C6B61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F44A3-FC7B-4B86-BE88-ED0ABCE4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901D5-06A3-4F43-9FBD-2AADA8A3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01F-8442-4091-9033-7C4A9EB7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49C-51B9-400E-9E84-D84C0808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D71A-F370-446D-ADD1-9EC6262F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2E26-F069-4F8E-B477-59E89E55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2D7-D2AA-4CA2-AD9B-60A71900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EAA5-2A05-47CA-9CAC-3A3FE44884C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FDFC-3450-4BDB-A99E-99C8F8EE11D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EEC0-F0B3-4D9C-9499-938AF159A7E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F4B2-9D19-46E4-90D0-87FB48583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DADES TEX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AMBIO DE MENS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TE SIG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 DOS O MÁS S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UNA INTENCIÓN DETERMI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RMAS DE COMUN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MUNICACIÓN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DIANTE SIGNOS LINGÜÍST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AL : DIÁLOGO, TERTULIA, DEBAT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A: CARTA, DIARIO, NOTA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EDIANTE SIGNOS NO LINGÜÍST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ISUALES: DIBUJO, SÍMBOLO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STUALES: ABRAZO, MIRADA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DITIVOS: TIMBRE, APLAUSOS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2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20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2000"/>
                                        <p:tgtEl>
                                          <p:spTgt spid="1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UNCIONES DEL LENGUA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1413000"/>
          <a:ext cx="8640720" cy="5379840"/>
        </p:xfrm>
        <a:graphic>
          <a:graphicData uri="http://schemas.openxmlformats.org/drawingml/2006/table">
            <a:tbl>
              <a:tblPr/>
              <a:tblGrid>
                <a:gridCol w="3095640"/>
                <a:gridCol w="2376360"/>
                <a:gridCol w="3168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UN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LE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JEMP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 SOBRE LA RE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S DEL REL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ULAR PERIÓD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 DE ÁNIMO DEL QUE EM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MENS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OS DE ALEGRÍA, TRISTEZA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AM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EL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TA AL RECEPTOR A RESPO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AJES PUBLICITARIOS, ORDEN, RU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ÁTICA O DE CONTA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ECE LA COMUN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BRE  TELÉFONO, FRASES DE SALUDO,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INGÜÍ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LA DEL PROPIO LENGU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QUIER LIBRO DE TEXTO DE LENG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É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ACA LA FORMA DEL LENGU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QUIER OBRA DE ARTE, JUEGOS DE PALAB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19:34:41Z</dcterms:modified>
  <cp:revision>3</cp:revision>
  <dc:subject/>
  <dc:title>Diapositiva 1</dc:title>
</cp:coreProperties>
</file>