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B6F-1E93-4266-AA49-469AD79B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FD0-311E-4599-B318-E2928C6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CEF-FE9E-44D3-BA01-033CB9D6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677-F642-478D-9D39-5462C1D0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A626-A82F-4BB7-80C4-4821DDCA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FB7E-C434-4794-B417-A96E5BA9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3358-A4B5-43FD-9141-08F875A6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6741-967B-4176-B07E-5DEE8B42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43CB-7D54-4536-88B2-91D3999C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1A96-3C3B-4116-82EC-AB0B4339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DA36-F314-4086-8230-3DBC0BEF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85D-A4BE-4683-B66E-D818075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9664-96F3-4BB5-80EB-3D2E753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B31A-B191-4F91-8B67-E9FB96E3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AF86-132A-4163-8A4E-6DC79250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6B59-89B9-4548-A9C1-5CC2CEA5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105C-F5E0-4E61-991C-4D46A404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A34-02C7-4356-8B7E-3C56DC09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E9E-D5B2-4A89-8B63-EA6B94F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E6B-EE89-4540-ADD8-C9770965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4FB-CBFD-422D-99E0-AFCDD6E8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5A0-6926-4346-B709-2EE68726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720-3FF0-48B0-A2F7-6D77B03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809-2BB6-4E8D-948D-5ADE4E76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006B-1E5B-4312-A242-D84B80EB8E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2BD8-9AA0-49E7-A757-9B124A15EA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Í HABLAMOS, ASÍ ESCRIBI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TERJEC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417680"/>
          <a:ext cx="8064000" cy="4663800"/>
        </p:xfrm>
        <a:graphic>
          <a:graphicData uri="http://schemas.openxmlformats.org/drawingml/2006/table">
            <a:tbl>
              <a:tblPr/>
              <a:tblGrid>
                <a:gridCol w="1365840"/>
                <a:gridCol w="6698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JAL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O INTENSO DE QUE OCURRA AL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RACIÓN, SOR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R, P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HOL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U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SAL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UF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SANCIO, FASTI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J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OB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CAR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ADO, EXTRAÑE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RAVO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AUSO, ADMI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VAY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GRADO, DISG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DÉN ,INCREDU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E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AMADA, PREGUNTA, ADVER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RESIONES LATI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CESSIT: mención honor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DDENDA: apéndice a un lib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AS: por otro nombre, 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OSTERIORI: con pos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RIORI: con an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IS: dos ve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URRÍCULUM VÍTAE: relación de datos pers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ÉFICIT: f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 PROFESO: intencion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ROSSO MODO: aproxim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 EXTREMIS: en situaciones extr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ÁXIME: princip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TA BENE (N.B.): obser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 CÁPITA: individu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ÓRUM: número de individuos necesario para que pueda tomarse un acuer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ÁVIT: cantidad que sobrepasa la de los ga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LTIMÁTUM: resolución defini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OX POPULI: de dominio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GRAFÍAS Y/LL-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ETRÁS DE LOS PREFIJOS AD-, DIS- , SUB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QUE TIENEN SÍLABA  -YEC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CON INFINITIVO SIN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L FINAL DE PALABRA EN UN DIPTONGO O TRIPTO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TERMINADAS EN –ILLO, -ILLA, - ELLO, -ELLA, -A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ACABADAS –ELLAR, -ILLAR, -ULLAR, -ULL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LABRAS QUE EMPIEZAN POR EL DIPTONGO HUE-, HUI-, HIE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AS FORMAS DE LOS VERBOS HABER, HABLAR, HACER, HALLAR, HAB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LOS ELEMENTOS COMPOSITIVOS HECTO-, HEPTA-, HEMI-, HETERO- ,HOMO-, HEXA- , HIPER-, HIPO-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CTÁ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LIOMO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ICIC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XAED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DROAV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ERHIDR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OGLUC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OMOGÉN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06:06Z</dcterms:created>
  <dc:creator>AUDIOLEASK</dc:creator>
  <dc:description/>
  <dc:language>en-US</dc:language>
  <cp:lastModifiedBy>AUDIOLEASK</cp:lastModifiedBy>
  <dcterms:modified xsi:type="dcterms:W3CDTF">2013-11-10T21:26:12Z</dcterms:modified>
  <cp:revision>2</cp:revision>
  <dc:subject/>
  <dc:title>TEMA 2</dc:title>
</cp:coreProperties>
</file>