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4EB7-7BA6-4A61-A120-89B90C85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39C8-5AD8-4FFD-8621-0DB28333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E89-7123-47EF-B123-4464E107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CD1-3B65-4787-94D8-319DE442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2A5F-7A6F-400A-9E3D-B8BE307C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3EF1-6225-4D61-84E0-30C28A9B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D9B6-39FA-42CC-B545-75F52CDA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0F72-CB5D-4D59-9FE2-8898F8EB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43E5-7EB7-495E-9B55-B9E02AB9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8747-A5B1-4461-9843-26713F42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DF96-641D-4574-80DA-11F6CC45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BA3-76D6-400C-9200-D706C98A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6254-3097-43DF-8302-22978490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7BEE-5708-47BE-9396-F7D30190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BA64-1EBC-4533-9CA5-E57C038D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D623-357B-4DA5-929D-2B2123BC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0464-367A-4CD9-8DEF-1694EED9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B4E-59B0-4E20-830A-78C48C37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88F-49EE-40DA-BEC8-170F506E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9F4-B336-4EA4-B325-BAC0BB22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E41-4447-4B76-A549-E89779E9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7A27-A260-41A0-9A45-0B774E93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783-E80C-4BF8-9CA5-0B03A51E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07C2-D2B1-412A-85E0-502A1E14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346C-A377-46C7-9A11-921F49884A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C1B9-D5D8-40E4-8103-6566B0C291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Í HABLAMOS, ASÍ ESCRIBI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INTERJECC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1417680"/>
          <a:ext cx="8064000" cy="4663800"/>
        </p:xfrm>
        <a:graphic>
          <a:graphicData uri="http://schemas.openxmlformats.org/drawingml/2006/table">
            <a:tbl>
              <a:tblPr/>
              <a:tblGrid>
                <a:gridCol w="1365840"/>
                <a:gridCol w="669816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OJALÁ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EO INTENSO DE QUE OCURRA AL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O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RACIÓN, SORPR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Y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OR, P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HOLA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U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SAL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UF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SANCIO, FASTI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JÁ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OB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CARAY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FADO, EXTRAÑEZ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BRAVO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LAUSO, ADMI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VAYA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AGRADO, DISGU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BA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DÉN ,INCREDU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E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LAMADA, PREGUNTA, ADVERT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RESIONES LATIN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CCESSIT: mención honoríf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DDENDA: apéndice a un lib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LIAS: por otro nombre, m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POSTERIORI: con posterior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PRIORI: con anterior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BIS: dos ve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URRÍCULUM VÍTAE: relación de datos pers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ÉFICIT: fal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 PROFESO: intencionada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GROSSO MODO: aproximada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N EXTREMIS: en situaciones extre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ÁXIME: principal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TA BENE (N.B.): observ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ER CÁPITA: individual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ÓRUM: número de individuos necesario para que pueda tomarse un acuer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UPERÁVIT: cantidad que sobrepasa la de los ga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ULTIMÁTUM: resolución defini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OX POPULI: de dominio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 GRAFÍAS Y/LL-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CON 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DETRÁS DE LOS PREFIJOS AD-, DIS- , SUB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PALABRAS QUE TIENEN SÍLABA  -YEC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FORMAS VERBALES CON INFINITIVO SIN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AL FINAL DE PALABRA EN UN DIPTONGO O TRIPTON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PALABRAS TERMINADAS EN –ILLO, -ILLA, - ELLO, -ELLA, -AL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FORMAS VERBALES ACABADAS –ELLAR, -ILLAR, -ULLAR, -ULL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CON 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ALABRAS QUE EMPIEZAN POR EL DIPTONGO HUE-, HUI-, HIE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LAS FORMAS DE LOS VERBOS HABER, HABLAR, HACER, HALLAR, HABIT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LOS ELEMENTOS COMPOSITIVOS HECTO-, HEPTA-, HEMI-, HETERO- ,HOMO-, HEXA- , HIPER-, HIPO-,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CTÁR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LIOMO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MICIC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MORRAG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XAED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DROAV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PERHIDRO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POGLUCEM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OMOGÉNE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21:06:06Z</dcterms:created>
  <dc:creator>AUDIOLEASK</dc:creator>
  <dc:description/>
  <dc:language>en-US</dc:language>
  <cp:lastModifiedBy>AUDIOLEASK</cp:lastModifiedBy>
  <dcterms:modified xsi:type="dcterms:W3CDTF">2013-11-10T21:26:12Z</dcterms:modified>
  <cp:revision>2</cp:revision>
  <dc:subject/>
  <dc:title>TEMA 2</dc:title>
</cp:coreProperties>
</file>