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224C-A671-4BFD-BAB0-5AF0B0B13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78BD-D550-43FD-9483-E6479EEAE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2EF2-0AF7-43B3-BFB1-67C5FA1CE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E247-BE8F-4F30-9ADC-C1A121CF4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13251-D7A4-4584-A1D1-2FCA15906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A06FA-F701-4B30-9557-4D0E2F43D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29C4B-A167-4B86-A4C2-0705065F6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F169F-42E7-4D01-8498-3ACA02620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9390B-E401-4153-AB35-AC930B2FC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239EA-2270-4D25-B219-8AF76547F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645F7-1B3F-4471-A67A-102F8E94B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44B6-2E02-45BE-89D5-A99CBA2E1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A2383-314B-462B-8C37-6F0A8DC81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265B4-4018-446B-8007-E950BD6BA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1FF1C-8BD2-4567-B68A-82F4F5D2C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F0AD5-E075-4488-A4CF-83DFCD092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3FECB-F613-401F-97A2-BEC1C153D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79CB-65DC-4C57-8EBE-8C2517C45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2B64-849B-422C-9517-D620F3276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5C7F-0467-4B66-9EBA-D75B95DAC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6E71-FA02-4BCA-81D7-EBD747ECC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A0A0-2F61-4D9F-AC41-F40AF6A82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0654-1D2D-42E4-BAC1-85873466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6402-2DE3-4E79-8A2C-1CE25A357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E3333-0BE6-4B51-95C5-E59C9D21EEE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62310-704D-438C-B2CF-5EAEC8EBEDE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EMA 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900000" y="3886200"/>
            <a:ext cx="68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SÍ HABLAMOS, ASÍ ESCRIBIM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INTERJECCION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68360" y="1417680"/>
          <a:ext cx="8064000" cy="4663800"/>
        </p:xfrm>
        <a:graphic>
          <a:graphicData uri="http://schemas.openxmlformats.org/drawingml/2006/table">
            <a:tbl>
              <a:tblPr/>
              <a:tblGrid>
                <a:gridCol w="1365840"/>
                <a:gridCol w="6698160"/>
              </a:tblGrid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¡OJALÁ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EO INTENSO DE QUE OCURRA ALG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¡OH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MIRACIÓN, SORPRES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¡AY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LOR, PE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¡HOLA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LUD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¡AH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BRESAL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¡UF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SANCIO, FASTIDI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¡AJÁ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ROBA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¡CARAY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FADO, EXTRAÑEZ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¡BRAVO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LAUSO, ADMIRA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¡VAYA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AGRADO, DISGUS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¡BAH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DÉN ,INCREDUL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¡EH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LAMADA, PREGUNTA, ADVERTENC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PRESIONES LATIN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ACCESSIT: mención honorífi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ADDENDA: apéndice a un libr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ALIAS: por otro nombre, mo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A POSTERIORI: con posteriorid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A PRIORI: con anteriorid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BIS: dos vec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CURRÍCULUM VÍTAE: relación de datos person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DÉFICIT: fal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X PROFESO: intencionadam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GROSSO MODO: aproximadam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IN EXTREMIS: en situaciones extrem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MÁXIME: principalm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NOTA BENE (N.B.): observ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PER CÁPITA: individualm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QUÓRUM: número de individuos necesario para que pueda tomarse un acuerd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SUPERÁVIT: cantidad que sobrepasa la de los gast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ULTIMÁTUM: resolución definitiv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VOX POPULI: de dominio públic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1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1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1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1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1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1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6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16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16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16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80"/>
                                        <p:tgtEl>
                                          <p:spTgt spid="16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S GRAFÍAS Y/LL-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SE ESCRIBE SIEMPRE CON 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DETRÁS DE LOS PREFIJOS AD-, DIS- , SUB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N PALABRAS QUE TIENEN SÍLABA  -YEC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N FORMAS VERBALES CON INFINITIVO SIN 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AL FINAL DE PALABRA EN UN DIPTONGO O TRIPTON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SE ESCRIBE SIEMPRE 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N PALABRAS TERMINADAS EN –ILLO, -ILLA, - ELLO, -ELLA, -AL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N FORMAS VERBALES ACABADAS –ELLAR, -ILLAR, -ULLAR, -ULLI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SE ESCRIBE SIEMPRE CON 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PALABRAS QUE EMPIEZAN POR EL DIPTONGO HUE-, HUI-, HIE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LAS FORMAS DE LOS VERBOS HABER, HABLAR, HACER, HALLAR, HABIT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N LOS ELEMENTOS COMPOSITIVOS HECTO-, HEPTA-, HEMI-, HETERO- ,HOMO-, HEXA- , HIPER-, HIPO-, 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HECTÁRE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HELIOMOT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HEMICICL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HEMORRAG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HEXAEDR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HIDROAV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HIPERHIDROSI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HIPOGLUCEM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HOMOGÉNE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8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/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80"/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1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1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80"/>
                                        <p:tgtEl>
                                          <p:spTgt spid="1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80"/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1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1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80"/>
                                        <p:tgtEl>
                                          <p:spTgt spid="1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6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16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16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16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16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80"/>
                                        <p:tgtEl>
                                          <p:spTgt spid="16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16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16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/>
                                        <p:tgtEl>
                                          <p:spTgt spid="16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16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16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80"/>
                                        <p:tgtEl>
                                          <p:spTgt spid="16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16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16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80"/>
                                        <p:tgtEl>
                                          <p:spTgt spid="16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169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169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80"/>
                                        <p:tgtEl>
                                          <p:spTgt spid="169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169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169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80"/>
                                        <p:tgtEl>
                                          <p:spTgt spid="169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169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169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80"/>
                                        <p:tgtEl>
                                          <p:spTgt spid="169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0T21:06:06Z</dcterms:created>
  <dc:creator>AUDIOLEASK</dc:creator>
  <dc:description/>
  <dc:language>en-US</dc:language>
  <cp:lastModifiedBy>AUDIOLEASK</cp:lastModifiedBy>
  <dcterms:modified xsi:type="dcterms:W3CDTF">2013-11-10T21:26:12Z</dcterms:modified>
  <cp:revision>2</cp:revision>
  <dc:subject/>
  <dc:title>TEMA 2</dc:title>
</cp:coreProperties>
</file>