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BBC-78B5-4158-A691-4138B762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56A-E05C-4496-806C-F2DB2B5C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6B2-964B-48D2-A7F1-831C8A57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E04-3B88-4585-BD76-38BA0493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3822-5E7F-4196-A01E-07111485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412F-DB46-41ED-8A29-AEE9B2BC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679A-9A6C-44CE-A813-F5CF7BA5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3A22-E599-4CC1-9CF0-7459480A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4724-DA28-49E6-9829-1C9E90E1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1FC2-78C8-4FB1-9634-7A853892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3C04-CE23-4359-9E71-F9265EF8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90A-EDEE-476E-A932-D41F26AF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158F-739C-4B3C-AB89-340B5CF0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2E18-D13D-4064-8133-0848A49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78B4-4039-4CE1-9B4F-E59AAE3C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8F28-5247-49FA-8D1A-41B2EAE6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2A80-0B25-44DA-AE9A-732E805B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1B0-EED2-46E9-B450-71178814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B45-B40C-454D-A944-3697EC8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A7E-3769-4AAC-83F6-A9122B80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DAC-0616-4E76-9684-1BA6C0F7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5D4-447A-4D2A-81ED-4E191633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B0C-DD36-49D6-A149-AC318951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F2A-9237-4556-B19F-64396F4D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EC53-447E-4BEE-AFC7-0E84498B361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EB60-8385-4F77-8AC9-6392AF272F7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CUENTO DE LA LECH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RIEDADES TEXTU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ARTA COMERC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tas entre las empresas, empresas y particulares o vicever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IRC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do escrito del que se hacen tantas copias como enví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ACTERÍSTICA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 LAS CARTAS COMERCIALES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 de s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males: ni cultas ni coloqu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rrectas: respetan la gramática y ortografí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as: sintaxis sencil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uales: sin arcaísm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cráticas: sin discrimina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conómicas: no larg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TIPOS </a:t>
            </a:r>
            <a:br>
              <a:rPr sz="5100"/>
            </a:b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DE CARTAS COMERCIALES 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ertas y publicidad de produc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lamaciones a empresas o particula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ed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UCTURA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 UNA CARTA COMER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Present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atos de la persona o empresa que emite la ca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ugar y fe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destina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uerp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alu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sunto a trat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sped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ier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remit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Notas, anexos, catálogos adju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0:08:27Z</dcterms:modified>
  <cp:revision>6</cp:revision>
  <dc:subject/>
  <dc:title>TEMA 7</dc:title>
</cp:coreProperties>
</file>