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A46-E4F9-4BC1-9E4B-93018B71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C25-963D-4DE1-8B1C-D459CAC5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841-15D7-417E-9891-1F04A189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086-6FFD-4908-8B51-4D827C95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3FA2-1FA9-4140-B895-D34230E0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96D6-335A-4939-8186-310A795D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9578-70F7-4040-A016-FEFB639D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0614-D74A-4557-A7EC-5269AEA3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5F5A-8AB8-48C6-9761-BF4F12CD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54AD-8EE6-4380-86D6-01911928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D6C2-69A4-4090-A7C7-F82285B8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180-5ADF-4916-9EA3-86385C5A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E652-8EEB-432F-853B-1F7255BB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10B5-19DE-4735-B88A-0724B5DD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A3EE-360C-49D0-A539-DA696F17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E6B7-7511-40D8-9F38-6FBF6F23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34F8-A3CD-4E48-8A8F-EDDCD16E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0EA-057C-4642-8C1C-1C47A90A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2DBE-66F9-45D7-B2FB-05B9018A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293-71F1-457A-8707-4CB3B616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7F0-A3B9-48FA-A5BD-A5E1B49B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B2A-8F93-4A61-8671-B2659236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8BD7-A4AD-4103-AD11-0B65A9CC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5CD-A7AA-4410-A7C3-E301C17A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26A4-8F3F-45CD-AD18-1AA1B62E59C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1AFF-3682-406C-9B43-2CBAAAE798F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MA 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ADVERBIO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PREPOSICIONE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CONJUN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 ADVERB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abra invar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ica una circunstancia del verb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ede complementar a otro adverbio o a un adjetiv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núcleo de un sintagma adverb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dos o más palabras funcionan de adverbio son LOCUCIONES ADVERB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CLASES </a:t>
            </a:r>
            <a:br>
              <a:rPr sz="26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DE ADVERBIOS  Y LOCUCIONES ADVERBIALES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graphicFrame>
        <p:nvGraphicFramePr>
          <p:cNvPr id="93" name=""/>
          <p:cNvGraphicFramePr/>
          <p:nvPr/>
        </p:nvGraphicFramePr>
        <p:xfrm>
          <a:off x="685800" y="1573200"/>
          <a:ext cx="7772400" cy="4867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erb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uciones adverb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g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quí, allí, ahí, allá, acá, arriba, abajo, cerca, lejos, delante, detrás, encima, debajo, enfrente, atrás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final, a la cabeza, a la derecha, a la izquierda, al otro lad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s, después, pronto, tarde, temprano, todavía, aún, ya, ayer, hoy, mañana, siempre, nunca, jamás, próximamente, prontamente, anoche, enseguida, ahora, mientras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repente, de pronto, a menudo, al amanecer, al anochecer, en un periquete, con frecuencia, de tanto en tanto, a última hora, de vez en cuando, por la noche, por la mañana, por la tard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en, mal, regular, despacio, deprisa, así, aprisa, como, adrede, peor, mejor, fielmente, estupendamente, fácil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abiendas, a tontas y a locas, a oscuras, sin más ni más, en resumen, a la buena de Dios, a ciegas, a la chita callando, de este modo, a las buenas, a las malas, por las buenas, por las malas, a manos llenas, de alguna manera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co, mucho, bastante, más, menos, algo, demasiado, casi, sólo, solamente, tan, tanto, todo, nada, aproximad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menos, con todo, más o menos, todo lo más, como máximo, como mínim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irm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í, también, cierto, ciertamente, efectivamente, claro, verdader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de luego, en verdad, en efecto, sin duda, sin ninguna duda, en realidad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, jamás, nunca, tampoc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ninguna manera, ni por ésas, ni mucho menos, ni por asom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zá, quizás, acaso, probablemente, posiblemente, segur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l vez, a lo mejor, puede qu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0" y="580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ADVERBIO/ ADJETIVO </a:t>
            </a:r>
            <a:br>
              <a:rPr sz="5100"/>
            </a:b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verbios en –mente, derivados de un adjetivo calificativ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Libre        libre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m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jetivos calificativos convertidos en adverb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Habla </a:t>
            </a: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al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verbios de cantidad iguales a adjetivos determinativos o pronombres indefin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Lo siento </a:t>
            </a: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much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33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13:31Z</dcterms:created>
  <dc:creator>AUDIOLEASK</dc:creator>
  <dc:description/>
  <dc:language>en-US</dc:language>
  <cp:lastModifiedBy>AUDIOLEASK</cp:lastModifiedBy>
  <dcterms:modified xsi:type="dcterms:W3CDTF">2014-02-20T21:45:46Z</dcterms:modified>
  <cp:revision>4</cp:revision>
  <dc:subject/>
  <dc:title>TEMA 7</dc:title>
</cp:coreProperties>
</file>