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FF0-27AC-4990-A163-E336AEE5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EC0-D31F-42DD-BF71-BC90D5C9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0D7-B35A-4EBB-B686-492D38D5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FDA-CF72-4987-8376-4F85C8C6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0DE3-F01D-4082-924C-77ECEC16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EBA2-5907-45EE-8757-E2A42531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9A87-EF05-438D-B9E1-8F520E4B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8929-0634-459D-B7D4-BCADD67A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E46F-FCA0-4F74-80B3-46E0A573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4D2B-18CF-4327-A513-5CE953CA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ED4D-7C01-456B-8B63-478FB60D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1C1-950D-491D-981A-C9898D2D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585B-0843-4339-A255-A600AFD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FA49-D431-499F-BB12-4F13D4BC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CEC4-D1FF-4DA3-B844-F87EF766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B4C0-2CBB-48CA-8286-148456D0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4D15-0287-48E3-A117-8A7BA685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BFD-9E78-4443-B4F3-C50E4FB5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159-4D9C-4F6A-BFAA-0DA4E45A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4FA-4B21-4B64-9225-5100D1D1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191-77BA-484A-B4EF-EE78742F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FE9-B5C7-4546-935E-D14A669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F14-60A7-4C13-A7C5-C6C877D6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EE5-2801-4632-9115-67B873DD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B9DD-50A5-4A55-A785-2CBFB95E92B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1B62-5063-4251-8895-1ADE0C9F2A8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ADVERBI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PREPOSICIONE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CONJU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ADVERB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abra in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 una circunstancia del ver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complementar a otro adverbio o a un adjetiv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intagma adverb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dos o más palabras funcionan de adverbio son LOCUCIONES ADVERB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CLASES </a:t>
            </a:r>
            <a:br>
              <a:rPr sz="26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DE ADVERBIOS  Y LOCUCIONES ADVERBIALE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graphicFrame>
        <p:nvGraphicFramePr>
          <p:cNvPr id="93" name=""/>
          <p:cNvGraphicFramePr/>
          <p:nvPr/>
        </p:nvGraphicFramePr>
        <p:xfrm>
          <a:off x="685800" y="1573200"/>
          <a:ext cx="7772400" cy="4867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uciones adverb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, allí, ahí, allá, acá, arriba, abajo, cerca, lejos, delante, detrás, encima, debajo, enfrente, atrá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final, a la cabeza, a la derecha, a la izquierda, al otro lad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s, después, pronto, tarde, temprano, todavía, aún, ya, ayer, hoy, mañana, siempre, nunca, jamás, próximamente, prontamente, anoche, enseguida, ahora, mientra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repente, de pronto, a menudo, al amanecer, al anochecer, en un periquete, con frecuencia, de tanto en tanto, a última hora, de vez en cuando, por la noche, por la mañana, por la tard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, mal, regular, despacio, deprisa, así, aprisa, como, adrede, peor, mejor, fielmente, estupendamente, fácil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abiendas, a tontas y a locas, a oscuras, sin más ni más, en resumen, a la buena de Dios, a ciegas, a la chita callando, de este modo, a las buenas, a las malas, por las buenas, por las malas, a manos llenas, de alguna manera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co, mucho, bastante, más, menos, algo, demasiado, casi, sólo, solamente, tan, tanto, todo, nada, aproximad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menos, con todo, más o menos, todo lo más, como máximo, como míni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irm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, también, cierto, ciertamente, efectivamente, claro, verdade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de luego, en verdad, en efecto, sin duda, sin ninguna duda, en realidad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, jamás, nunca, tampoc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ninguna manera, ni por ésas, ni mucho menos, ni por aso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zá, quizás, acaso, probablemente, posiblemente, segu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 vez, a lo mejor, puede qu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58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ADVERBIO/ ADJETIVO </a:t>
            </a:r>
            <a:br>
              <a:rPr sz="5100"/>
            </a:b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en –mente, derivados de un adjetivo calific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Libre        libre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m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jetivos calificativos convertidos en adverb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Habla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al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de cantidad iguales a adjetivos determinativos o pronombres indefin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Lo siento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much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1:45:46Z</dcterms:modified>
  <cp:revision>4</cp:revision>
  <dc:subject/>
  <dc:title>TEMA 7</dc:title>
</cp:coreProperties>
</file>