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B8B-4251-403B-BA1C-BF2AB432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A7F-50D5-4359-8C70-1D66171A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E84-7E60-48EB-B8B3-80F49D1C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846-4070-45EF-AA08-0D5E6F5F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A991-91CE-4854-8F68-F1788CAF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52C6-6E6E-4293-9781-624AA53C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2743-C070-427B-B9B9-3A9D8CA2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07D1-4AED-4AE6-AC0F-EE4A2BFE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C1C6-66E3-4819-AAE0-008B420D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847C-E9B1-44BB-A44A-ACB164B2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3D05-1296-4E97-BBAD-D4251CFA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F75-38BE-44E8-B724-13AB9FFE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353A-7B50-4AD9-945F-77285F3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C913-DA4F-4C00-8837-5C6A2A1E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B530-96D4-42BB-9CFB-3AD1BC8E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1B8D-88A7-43D0-9DA4-21C97E46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85F2-2481-417A-9621-914C276D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A2F-D432-4C1B-A5DE-D9DBF009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4E3-FE57-4052-B4D8-1F5774A5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025-1220-41A3-AFFB-EF2BB4B1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ADB-70D9-4859-8505-FD6263C5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A3E-435F-4396-AEBB-54993ECB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2F8-8A0C-4909-9B90-3C3B8A65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946-E7F0-41EF-8A81-99869475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759D-4CC7-4E8C-BC26-F62DCA27F36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D2FB-C277-4ED9-8EFF-6CDFFE5E538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MÁTICA TEMA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VERBO ES UNA CLASE DE PALABRA QUE EXPRESA DEL SUJE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V (PRED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LLEVA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STRUCTURA D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EXEMA O RAÍZ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SIGNIF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A (A,E,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CONJUGACIÓ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RFEMA TEMPORAL-MOD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TIEMPO Y MO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INENCIAS PERSON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PERSONA Y NÚMERO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CCIDENTES GRAMATIC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 : 1ª, 2ª Y 3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: SINGULAR Y PL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: PRETÉRITO, PRESENTE, FUTURO Y CONDI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O: INDICATIVO, SUBJUNTIVO E IMPER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ECTO: IMPERFECTO Y PERF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Z: ACTIVA Y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ORMAS NO PERSONALES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INITIVO, COMO UN SUSTAN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R, CORRER, VIV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ER AMADO, CO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ERUNDIO, COMO UN ADVER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NDO, CORRIENDO, VIVI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IENDO 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TICIPIO, COMO UN AD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LA CONJUGACIÓN VERBA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OS DE CONJUGA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AR= 1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R=2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R= 3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REGULARES: NO VARÍA LA RAÍZ NI LOS MORFEMAS DE SU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EGULARES: VARÍA LA RAÍZ, MORFEMAS O AM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NÚCLEO VERBAL CON 2 VERBOS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EN FORMA COM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ER 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 EN VOZ PASIV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UCIÓN VERB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BO+SN O S PR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ÍFRASIS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 PERSONAL+(NEXO)+FORMA NOM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PERÍFRASIS VERB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ALES: Expresan la actitud del habl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OBLIGACIÓ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er que, haber de/que + infinitivo, de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PROBABILIDAD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r de, poder+ infinitivo, veni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ECTUALES: Informan sobre el desarrollo de la a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GRES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 a, estar a punto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O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har a , romper a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R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ar, andar, llevar+gerun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jar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ITERATIV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lve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45:04Z</dcterms:created>
  <dc:creator>AUDIOLEASK</dc:creator>
  <dc:description/>
  <dc:language>en-US</dc:language>
  <cp:lastModifiedBy>AUDIOLEASK</cp:lastModifiedBy>
  <dcterms:modified xsi:type="dcterms:W3CDTF">2014-02-11T20:41:46Z</dcterms:modified>
  <cp:revision>4</cp:revision>
  <dc:subject/>
  <dc:title>EL VERBO</dc:title>
</cp:coreProperties>
</file>