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A17-1556-4B37-8B55-66107566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2A9-31A8-459B-BB50-3DC3BBBF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5E8-2ECC-4AB5-8A65-3AB76C22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C8E-5E0F-4903-9B0F-B73E056F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C6D0-EA63-4275-90BD-F73D4142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8E04-B582-4AAF-B600-9B077FDA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87A9-3BC0-4880-A471-A6A2B534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0F4B-6AD5-48DA-AA1E-2382EC9B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394C-6828-4B7D-8AC2-3B520CB5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2B91-F773-40C9-A868-D2551979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CBE7-4902-4A9F-9FD8-D45AFB30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8B0-70FE-4184-B553-2173F500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1226-397C-4570-B60F-29CF75A9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1DB4-69B3-47CD-A599-FF23DCCF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0D33-DA31-4088-BFFF-D37285A5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50D5-18C2-40DC-A9B8-8C521822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5013-79D7-49C3-ACBD-F91BEB84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C4D42-1C66-403E-830C-80983575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E630D-1791-412D-9527-BE6C08C4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5A79-02FC-4CB3-9C73-293DB399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826E5-9F9C-49A8-9464-E2A63100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66464-E442-4036-A72C-FD5ADAE3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772-9C06-42CF-AE68-CDCF755A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B8E6-F85C-4CB5-9D7F-BA14DF18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DC2A8-ADE6-4E26-AA3D-D5B8676F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17B65-E8E7-4BCA-BB3F-6D65AC81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85BD-B899-4977-9B26-BCBB1EE4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B5E16-3F7D-4B12-A5F3-3B9E548B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7D22-9CF7-4793-8506-7358BC17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CF1F1-16A8-4874-866D-D1838A7B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FB60A-9E6B-4AF9-98DA-88E793BA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B5F8F-536D-447F-B897-6AA1B076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75776-F7DC-4814-B716-A2FBE07F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D97-6616-4F13-BE84-52A489BF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C1BEE-2D77-446F-A390-C5D69B0B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43A5D-0651-4800-B402-4B5F8A4C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06FEC-DF2F-4F2B-B1E5-0022A11F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BEFB2-5D84-4B12-9A7E-69F5F84D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6E03A-DEF7-4C70-B48E-144626D5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9A950-D5A4-4585-B778-89BD2070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63A0E-0DB4-42F4-A797-6B06FBD1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35C5A-EEC2-4F00-8311-47E28B57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EA454-61E0-4764-B18B-BABBD9CF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3528E-78AC-4D4E-84B3-1A130839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015-4B37-45E8-B705-D3C965AF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60B9C-9130-4867-B8B7-E267FF7A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9E242-5C8E-4D1E-8150-95391ABA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DC4E9-3A27-4590-8EED-C92AD9EE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B430A-C742-4A84-AC41-A38C2A9E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D70CC-BF32-46B8-BF9F-6A05A41E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3A4C2-3C2A-427C-B440-DFF36FEC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1D7DD-3645-4451-9D60-7BE1D7A5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E778C-EE4B-47B2-A63E-BA5A57C6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3F4B0-0B7E-4CFD-87A7-32B607CF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41079-B2DE-4254-8C9E-C0DA49F9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E6C-F8F7-4392-BF04-C38B7440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D5EC1-5956-4A8E-B3A0-FF41CC38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71F-6816-4193-B99F-95622A0F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641-BC1F-46CD-A8F5-BB316CB9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B4C-F89E-4377-812E-C7FF128D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3B3C-7CC1-4415-A4BF-79AE77B9E06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0BFC-77D2-4127-8027-C11BEB36A8E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ED4A-5D1A-499B-A8F9-85BF1472B68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C341-1015-45FF-A11E-1B4D0193A6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D204-4908-4685-964E-ECEEF26818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RIEDADES TEXTU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A COMUNIC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AMBIO DE MENSA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TE SIG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E DOS O MÁS SE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UNA INTENCIÓN DETERMI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FORMAS DE COMUNIC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MUNICACIÓN VERB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DIANTE SIGNOS LINGÜÍS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L : DIÁLOGO, TERTULIA, DEBAT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TA: CARTA, DIARIO, NOTA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EDIANTE SIGNOS NO LINGÜÍS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ISUALES: DIBUJO, SÍMBOLO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UALES: ABRAZO, MIRADA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IVOS: TIMBRE, APLAUSO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2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2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19:17:56Z</dcterms:modified>
  <cp:revision>2</cp:revision>
  <dc:subject/>
  <dc:title>Diapositiva 1</dc:title>
</cp:coreProperties>
</file>