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0210-57B0-4BF9-AD02-BADD5046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5E9C-8047-425A-BD3C-1090B7FA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187F-54F1-45AD-97C2-5ADF78FF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9F57-4E53-47F9-A0E8-13543FBE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143C-E6D0-4F6F-9E81-9B1D6DFF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EF41-E4B0-4D1F-86FF-FFCB806E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51D1-BF7E-4139-A1F8-08D33A01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1DEA-CBC8-40A7-A78A-3BBEED69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5D60-19DD-4700-8671-CE86F6B7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5EB2-9347-4C62-8496-03108A07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008A-1172-4AB3-B34C-090E65B3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4C05-F9C2-4E44-AAD9-0133FBF2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04C6-5B3D-4411-9090-0788A943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C8F0-1CFE-4B48-A89A-E91282D7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94E4-C8ED-474A-B919-F133B32E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2ABB-2A92-42CA-A42E-BE433573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A155-1D75-4DC1-99FB-42770134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2739-C209-4E42-84E0-CC226446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4222-1466-4FB2-AD3F-2F4114A8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8F6-BAC2-4870-AA31-9E274E07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53A4-8193-4510-83F6-95CFC4A6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800-8528-442F-B9EB-4E518E4E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168-9C5A-4F5A-8BD1-6176965B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4F46-19DE-4388-914F-CA0CF39B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48AA-51E2-4EE1-A685-10231F2330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F703-4793-4ABA-9925-FC7DFD86AE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OCABULA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ÁGINA 25 (1-2) Y 3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962440" cy="453060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TRUÍSTA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NERO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NTERESA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DIVO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BNEGA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PRENDI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RRELACIÓN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RRESPONDENC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REDADO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ZAD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RICTO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IGUROS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HIBIENDO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STRAN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SUADI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BLIGA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 DOQUIE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R TODAS PAR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35280" y="1628640"/>
            <a:ext cx="5329440" cy="445464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CTÁREA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MEDIDA DE CIEN ÁRE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LIOMOTO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TRANSFORMA LA ENERGÍA SOLAR EN MECÁN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MICICL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MITAD DEL CÍRCUL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MORRAGI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ÉRDIDA GRANDE DE SANG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XAEDRO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UERPO LIMITADO POR SEIS CAR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DROAVIÓ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AVIÓN QUE PUEDE POSARSE SOBRE EL AGU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PERHIDROSI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SUDORACIÓN EXCESIV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POGLUCEMIA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NIVEL BAJO DE AZUCAR EN SANG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OMOGÉNE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ONJUNTO FORMADO POR ELEMENTOS IGUA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21:27:02Z</dcterms:created>
  <dc:creator>AUDIOLEASK</dc:creator>
  <dc:description/>
  <dc:language>en-US</dc:language>
  <cp:lastModifiedBy>AUDIOLEASK</cp:lastModifiedBy>
  <dcterms:modified xsi:type="dcterms:W3CDTF">2013-11-10T21:46:40Z</dcterms:modified>
  <cp:revision>2</cp:revision>
  <dc:subject/>
  <dc:title>TEMA 2</dc:title>
</cp:coreProperties>
</file>