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CD6B-59D4-4F42-BCC7-014388FE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B60E-1AE7-487C-857E-DB2FBE75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0D69-DEC1-4E71-B12A-48B8A9AF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8CF0-CCFC-4C82-9B66-C8CDEDAB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6A46-F760-46F1-BB46-EDCBAEDA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A945-AE6E-4903-BC1F-2A88BDCE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081D-EC2C-4CBA-A016-73F19CC2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747D-53BE-44C1-A20F-7CFCE6FC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A7A3-4F12-4BEE-A945-BE92678D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660A-DE21-479E-8DBD-8B2A2C88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BF22-FE80-49A9-B23A-E3D39023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77B0-7D5D-4C6A-B86F-258F1ECB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33DD-8F55-4CF8-B49F-9B8E6833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A0DA-8A38-4692-A74D-D5CBAA90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9D13-6F8B-4A4F-9332-9F9F7DE5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4652-75D4-48E3-BD82-0B3C9155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1A57-4CC8-47D7-A71B-C9FC7200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9E8-5C48-42E5-B832-6982FA9D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824-909C-4EB2-8570-DD71985A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A265-6D59-42FD-91C1-9836CCD1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2674-BFCA-4B15-AC54-2ECBC0CC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5EA-E213-4B71-B48F-722419C5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97BD-1470-459A-8451-39BFE225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B05A-EE6B-437C-AA0F-D6EC7FB5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374D-F3B6-44F4-8E8F-6940415578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AA44-5C63-4EF8-B691-7FC854BE8B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A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OCABULAR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ÁGINA 25 (1-2) Y 3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962440" cy="453060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TRUÍSTA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NERO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NTERESAD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ADIVO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BNEGAD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PRENDID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RRELACIÓN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RRESPONDENC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REDADOR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ZADO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RICTO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IGUROS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HIBIENDO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STRAND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SUADIR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BLIGA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 DOQUIER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R TODAS PAR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35280" y="1628640"/>
            <a:ext cx="5329440" cy="445464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CTÁREA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MEDIDA DE CIEN ÁRE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LIOMOTO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TRANSFORMA LA ENERGÍA SOLAR EN MECÁNIC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MICICL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MITAD DEL CÍRCUL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MORRAGIA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PÉRDIDA GRANDE DE SANG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XAEDRO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CUERPO LIMITADO POR SEIS CAR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IDROAVIÓ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AVIÓN QUE PUEDE POSARSE SOBRE EL AGU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IPERHIDROSI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SUDORACIÓN EXCESIV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IPOGLUCEMIA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NIVEL BAJO DE AZUCAR EN SANG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OMOGÉNE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CONJUNTO FORMADO POR ELEMENTOS IGUA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6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6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6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6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6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6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6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6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6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21:27:02Z</dcterms:created>
  <dc:creator>AUDIOLEASK</dc:creator>
  <dc:description/>
  <dc:language>en-US</dc:language>
  <cp:lastModifiedBy>AUDIOLEASK</cp:lastModifiedBy>
  <dcterms:modified xsi:type="dcterms:W3CDTF">2013-11-10T21:46:40Z</dcterms:modified>
  <cp:revision>2</cp:revision>
  <dc:subject/>
  <dc:title>TEMA 2</dc:title>
</cp:coreProperties>
</file>