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67C-1DEE-4E27-BBB9-5B025B54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B14-833A-4857-B21A-74136EFE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BA8-0FE2-480C-8538-DC4AB232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80C-6A30-4F72-BB28-8827FFC5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F3F6-A5D4-41B6-9B52-1903DF6B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D353-AFBB-4DDD-B036-E8C55AC3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9955-48B7-49EC-ADAD-00C3CBBD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4951-B929-4EA9-A336-3F7E999E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798A-EF5A-4515-BD54-2D604D75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1E86-8A9F-4E0E-8B9D-CD9C194C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B375-B8A8-4D29-B774-4AEE0D77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809-6249-43A4-B807-2F2E4893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F86C-D31B-4379-AF1F-AF16EE23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C2F7-5918-4339-9765-C3F5E99D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4CEA-3403-42E2-9A4E-2C7E996D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9071-6854-4763-BC06-FA3F657E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F261-D703-4853-8639-A0637EA7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20284-FD1E-4661-BD0A-92D9BB70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C29D2-9ED1-42E5-85B4-D395AEF4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438E7-38CD-42CF-9237-B2C55CF6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F8B3C-EF05-4B4C-9343-3D5E8D43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9B56D-1522-49DA-924E-59255A9B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9F4-92CB-4B64-A4EF-2C4538DC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C22AE-2CF1-41C0-B203-82B3F415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E4726-F4A6-47CA-8D84-08F7E6FA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F9DA3-7DDE-4618-B32C-2DC6A7F9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05CB-6AA4-4E09-AB70-0B713B2F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38139-8796-4551-A9EC-47E3E71C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DB3F8-E2A5-453A-BDF2-487A4A31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8A8AD-08A9-4004-A150-D3198C0A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8BB5A-5FA6-4BEB-AC8E-53FE458A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0D7B6-F1C0-4130-A640-76CB9D30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42E0E-B9ED-4AA7-81C0-7E11641B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B8C4-4917-47CD-BED5-65FA7476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237BC-595F-4FBA-96FC-B8B5128A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CC4DB-F200-4353-BAE4-62B66880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548E9-B018-4268-8548-AAE8EC21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CAB63-5967-4FB7-8E0C-00327EC2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0DABE-B743-479F-80E3-9E718C84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A7F31-246D-4CB0-B06C-6E9D7DD2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A904E-5D58-4064-9BAE-5697B5B1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3A10D-6156-4875-8B37-301B8F0A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2E3EF-A17D-4F45-BB90-5C5FEE8F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BBF04-3E38-4AC1-AA2F-A0BBBBFE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1576-6A18-4358-B4B2-4FB4F32B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8EF26-8D8F-4B49-A27D-F5122899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F5E21-4EAE-4206-AEF5-598907F5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8F290-4C12-48E3-90B0-ED4BBA33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55860-86A3-4A49-8A56-92F4AAF5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FA989-A71A-49E2-B2A6-49F9B350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927C1-953F-4D6D-AC60-13BD0A2E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C77AC-4FA8-49B7-8F4B-8416373F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F6764-1AEE-4824-BBFF-76E9B78D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52642-9015-4F11-BA9B-166432D3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58892-0D1C-4817-A8B4-81FA0727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3EBA-25E2-48FA-A774-E99B191D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48DF9-DDC7-4D3C-806F-75E8A7BA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220-0B54-4D83-A090-271CBEE9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DC2-D85E-4C6F-B1CF-4C9DC48D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549-CF5A-4975-950C-796340A2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7D73-1FF3-4567-89C5-6B652829A0B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B7DD-26D1-49F1-BDA7-2C19BA788CC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2417-3186-48B1-BCEC-65A570F64E8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AB07-A667-476A-9307-4F2AA8D16DD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76E1-DF73-40F9-979D-2BE404C4882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ÁT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significa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9640" y="2060640"/>
          <a:ext cx="8229600" cy="4349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ABRAS LÉX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MATIC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SIGNIFICADO LÉX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SIGNIFICADO SOLO GRAMA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STANTIVO (Laura, hij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O ( canta, salió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TIVO CALIFIC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pequeña, conten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BIO ( muy, ay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NOMBRE (ella, él, es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NTE ( su, u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OSICIÓN ( a, c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JUNCIÓN ( y, per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JECCIÓN  (oh, cara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for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24000" y="1773360"/>
          <a:ext cx="8424720" cy="4871880"/>
        </p:xfrm>
        <a:graphic>
          <a:graphicData uri="http://schemas.openxmlformats.org/drawingml/2006/table">
            <a:tbl>
              <a:tblPr/>
              <a:tblGrid>
                <a:gridCol w="2874600"/>
                <a:gridCol w="5550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XEMA O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rta signif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ar en Mar-ino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85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F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FLEXIVO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modifican el signif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do gramatical: género, 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rin-o ; marin-a) (marino-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ERIVATIVOS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PREFIJOS: delante de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ub- marino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SUFIJOS: detrás de la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ar-ino; mar-ítimo; mar-iner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for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24000" y="1773360"/>
          <a:ext cx="8424720" cy="4816440"/>
        </p:xfrm>
        <a:graphic>
          <a:graphicData uri="http://schemas.openxmlformats.org/drawingml/2006/table">
            <a:tbl>
              <a:tblPr/>
              <a:tblGrid>
                <a:gridCol w="2376360"/>
                <a:gridCol w="604836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ten morfemas flexivo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sustantivos, adjetivos, pronombres, verbos, determinant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llevan nunca morf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reposiciones, conjunciones, adverbi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jeccion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nen un solo lexem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apeles, pis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EST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nen dos lex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pisapapeles, sacacorch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INTAG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 Un sintagma 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palabra o grupo de palab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 sentido unit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cumple una función en la fr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Y lleva obligatoriamente un NÚCL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 CLASES DE SINTAGM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NOMINAL (SN) :su núcleo es un sustantivo o pronom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VERBAL (SV) : su núcleo es un verb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ADJETIVAL ( S.Adj): núcleo un adje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ADVERBIAL (S.Adv): núcleo es adverb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PREPOSICIONAL ( S.Prep): preposición (ENLACE) y sintagma nominal ( TÉRMI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2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2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20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FUNCIÓN DE LOS SINTAGM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1. SUJETO   (SN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núcleo 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 sustantiv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ronomb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a palabra sustantiv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2. PREDICADO  (SV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núcleo es el ver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3. COMPLEMENTO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ujeto: SN, Sadj. y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predicado: SN, S Adj. , S Adv. y 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intagma adjetival: S Pr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intagma adverbial: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20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2000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2000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2000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2000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2000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2000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21:26:48Z</dcterms:modified>
  <cp:revision>5</cp:revision>
  <dc:subject/>
  <dc:title>Diapositiva 1</dc:title>
</cp:coreProperties>
</file>