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F69-BDC0-44BD-B979-71E70603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8B3F-7E18-4B11-8C4B-8B04DFDE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8E1-38D1-43F3-B42C-B6F77149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59D-D060-4030-85E7-B1866FA7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3215-790D-4949-9714-8A23B1E3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2516-E607-4639-920B-915A9D07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4E65-3005-418E-A464-1523ADCC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717C-2EC4-4458-898F-705B8180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465D-6844-45A6-9D13-08A4AFA0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E6CD-DFD9-4035-91D2-E02FC7F3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66F9-4178-4D60-A16B-B3B61E06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933-7A49-41AA-84F9-B80C90F3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CAB6-8537-4B08-9B81-0A535614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574A-1580-4D03-B0EE-ADB8A0FB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D3E3-5F92-4008-A09A-FAC47D85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3F10-5BDD-49EE-BE27-49D5B780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49B7-6E0C-43D4-8953-05A54AC9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494F-9C2E-4BB0-8EB9-8E300A8F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AD6A1-A9EF-4E83-988B-F3A9F073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3E45-9251-4111-BC6B-9C25F466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E4A7A-6BC4-46D6-A712-A167B62B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E8D27-011F-40F7-81C5-FD3D2F4F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2D4-7504-4245-B04A-8BC8DAA2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1AD5-C777-4FC6-BB9D-288C58DF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BAA15-91F2-43D8-A212-7E25A377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5BDD0-27A8-446A-84C2-687D07EB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4C0C-AD77-43CA-B4D1-ABAE610F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70286-C7DB-4D72-933F-CDD53B39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77E05-C358-42B4-B549-F74ABC84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43DB9-C877-4AA8-A2AC-35426D45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4600-23D3-49D4-97A5-632BC7A5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02D2A-5FE1-4252-A83E-664AE5F8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D41E8-9767-435F-8E51-BF31742D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BBC-C1FB-4D99-A283-43F9303C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A326E-665B-45A6-9837-4C363E31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A06D8-F0B9-47E8-B2AD-62067E60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7F94C-D43B-4066-9068-014AF56A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7FB9-0A78-4478-B205-5B8E9A12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2983B-DCB9-4594-B3EF-F74BCA6A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93AB1-90C4-4E8B-9A6C-25060DEF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638A3-458E-4546-A31E-C5660C02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547F5-BD92-4472-8109-CC0C12AC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1FF1D-3BFE-430D-B6DC-EB539ED4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2A0-ADDE-415A-9C70-79F3E59A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99A-905B-4F7B-BD5E-771D0F12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44C-5852-4BA8-9341-2292E2A8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842-73B8-4E23-9B92-65E76A2B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D9E-A134-47CD-8118-28A2C0A6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68E4-49FA-43E4-B911-45587E6EB97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AA35-BF3E-4215-B09A-B662B8E405D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2A11-FE7B-4ADF-9C07-5B521EC1979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B232-16A7-4C2D-ABBC-2916AF05C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DADES TEX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AMBIO DE MENS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SIG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 DOS O MÁS S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UNA INTENCIÓN DETERMI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RMAS DE COMUN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MUNICACIÓN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DIANTE SIGNOS LINGÜÍS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AL : DIÁLOGO, TERTULIA, DEBA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A: CARTA, DIARIO, NOTA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EDIANTE SIGNOS NO LINGÜÍS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SUALES: DIBUJO, SÍMBOLO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STUALES: ABRAZO, MIRADA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DITIVOS: TIMBRE, APLAUSOS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1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UNCIONES DEL LENGUA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1413000"/>
          <a:ext cx="8640720" cy="5379840"/>
        </p:xfrm>
        <a:graphic>
          <a:graphicData uri="http://schemas.openxmlformats.org/drawingml/2006/table">
            <a:tbl>
              <a:tblPr/>
              <a:tblGrid>
                <a:gridCol w="3095640"/>
                <a:gridCol w="2376360"/>
                <a:gridCol w="316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UN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LE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JEMP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 SOBRE LA RE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 DEL REL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AR PERIÓD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DE ÁNIMO DEL QUE EM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ENS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OS DE ALEGRÍA, TRISTEZ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A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TA AL RECEPTOR A RESPO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S PUBLICITARIOS, ORDEN, RU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ÁTICA O DE CONT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 LA COMUN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E  TELÉFONO, FRASES DE SALUDO,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INGÜ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LA DEL PROPIO LENGU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LIBRO DE TEXTO DE LENG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É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ACA LA FORMA DEL LENGU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OBRA DE ARTE, JUEGOS DE PALAB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19:34:41Z</dcterms:modified>
  <cp:revision>3</cp:revision>
  <dc:subject/>
  <dc:title>Diapositiva 1</dc:title>
</cp:coreProperties>
</file>