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C93-F85D-433A-9FFD-D9C4C575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67D-264F-4CC0-AFE9-D2431B24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3C0-C532-44C7-8F12-968D9F9A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C79-C706-4CA7-9F43-B2D986B0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EAD4-0F8C-4249-A17F-84C1BE8C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EDE4-8762-43B9-A4CA-483AA1B3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E4D0-B1F5-4B63-ABF7-3C339FE6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5786-822A-4CCE-9279-D07C6B11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5EC2-2462-40F4-8DD2-2C540D06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B8C1-F13F-4E40-A67E-7BEC9024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8A09-AFB0-4C7C-81A1-DABE4CDF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338-D9E0-4DC7-BC8B-7D720330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BF16-4B9E-4160-B6C0-E66246FD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5E47-1FAE-49C9-A999-230677F5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4B1E-122C-4578-8B27-6E7FC873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017E-8E40-41A1-BBE5-FB23AED5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F904-FE05-4A21-8131-B9D9F616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DCE-EDD9-4932-A3E2-AC9D0F29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FB2-CA74-43D9-BB7F-BDB90D38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900-DF8E-44B7-8258-A2A5EDAD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FEB-F9FD-40F1-B9CB-9F9D5C1C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E1D-E2AC-4357-BBA8-0DBB4051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13C-C971-4540-8C6D-2D4AD958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66B-9A53-4828-A6B1-931368C9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FC2B-6A23-4525-A175-DA21ECB3BB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7C7A-A11E-476B-B330-17357FA3D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Í HABLAMOS, ASÍ ESCRIBI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TERJEC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417680"/>
          <a:ext cx="8064000" cy="4663800"/>
        </p:xfrm>
        <a:graphic>
          <a:graphicData uri="http://schemas.openxmlformats.org/drawingml/2006/table">
            <a:tbl>
              <a:tblPr/>
              <a:tblGrid>
                <a:gridCol w="1365840"/>
                <a:gridCol w="6698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JAL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O INTENSO DE QUE OCURRA AL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RACIÓN, SOR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R, P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HOL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U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SAL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UF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SANCIO, FASTI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J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OB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CAR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ADO, EXTRAÑE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RAVO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AUSO, ADMI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VAY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GRADO, DISG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DÉN ,INCREDU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E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AMADA, PREGUNTA, ADVER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RESIONES LATI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CESSIT: mención honor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DDENDA: apéndice a un lib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AS: por otro nombre, 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OSTERIORI: con pos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RIORI: con an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IS: dos ve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URRÍCULUM VÍTAE: relación de datos pers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ÉFICIT: f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 PROFESO: intencion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ROSSO MODO: aproxim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 EXTREMIS: en situaciones extr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ÁXIME: princip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TA BENE (N.B.): obser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 CÁPITA: individu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ÓRUM: número de individuos necesario para que pueda tomarse un acuer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ÁVIT: cantidad que sobrepasa la de los ga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LTIMÁTUM: resolución defini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OX POPULI: de dominio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GRAFÍAS Y/LL-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ETRÁS DE LOS PREFIJOS AD-, DIS- , SUB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QUE TIENEN SÍLABA  -YEC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CON INFINITIVO SIN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L FINAL DE PALABRA EN UN DIPTONGO O TRIPTO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TERMINADAS EN –ILLO, -ILLA, - ELLO, -ELLA, -A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ACABADAS –ELLAR, -ILLAR, -ULLAR, -ULL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LABRAS QUE EMPIEZAN POR EL DIPTONGO HUE-, HUI-, HIE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AS FORMAS DE LOS VERBOS HABER, HABLAR, HACER, HALLAR, HAB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LOS ELEMENTOS COMPOSITIVOS HECTO-, HEPTA-, HEMI-, HETERO- ,HOMO-, HEXA- , HIPER-, HIPO-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CTÁ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LIOMO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ICIC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XAED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DROAV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ERHIDR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OGLUC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OMOGÉN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06:06Z</dcterms:created>
  <dc:creator>AUDIOLEASK</dc:creator>
  <dc:description/>
  <dc:language>en-US</dc:language>
  <cp:lastModifiedBy>AUDIOLEASK</cp:lastModifiedBy>
  <dcterms:modified xsi:type="dcterms:W3CDTF">2013-11-10T21:26:12Z</dcterms:modified>
  <cp:revision>2</cp:revision>
  <dc:subject/>
  <dc:title>TEMA 2</dc:title>
</cp:coreProperties>
</file>