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CCB-A466-42AC-B39A-CA8A582A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5F1-5A35-43D9-B867-283C76B4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A2E-6176-42A9-B6E3-3676297E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C5C-4D07-4338-8D21-A318F0C1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E513-0D71-4378-8D7E-33E40591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D8B6-FE1F-4EC6-836D-3D60F7FD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195C-0C88-4E99-9AF6-7BCE112C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0BFE-7860-404C-9CF5-7264844C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3F3D-A55B-456E-B017-4946CECA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9BD1-F360-46DF-BDD4-9AB39C27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6A30-E371-425B-B7F8-2A53F436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B36-4F91-4741-8629-DFBD3101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B140-D71A-45CC-A025-5BAE4E7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8E4C-1FEA-418D-86F3-3ED8A509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5583-6235-4F70-8EBC-442B3053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CB11-62E8-49F7-A395-B81D2E71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6AF5-57D0-4CD6-BA26-E103D0CA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4D7-E642-47A6-B6F4-31EC94D4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005-AD85-42AE-A9A2-3F2FE5C7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743-4C8A-4415-B41C-A8E21664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45B-D1D3-4B6A-89E5-F07E6490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14A-D358-409E-A892-CC9307B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6EF-192A-4188-B572-D0402DF9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FF1-E001-40D2-8D79-5D5D1078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834D-A402-40F2-8142-9A3E49FB3B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6DF9-0D21-4636-98B6-30DD79F238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Í HABLAMOS, ASÍ ESCRIBI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TERJEC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417680"/>
          <a:ext cx="8064000" cy="4663800"/>
        </p:xfrm>
        <a:graphic>
          <a:graphicData uri="http://schemas.openxmlformats.org/drawingml/2006/table">
            <a:tbl>
              <a:tblPr/>
              <a:tblGrid>
                <a:gridCol w="1365840"/>
                <a:gridCol w="6698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JAL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O INTENSO DE QUE OCURRA AL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RACIÓN, SOR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R, P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HOL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U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SAL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UF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SANCIO, FASTI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J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OB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CAR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ADO, EXTRAÑE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RAVO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AUSO, ADMI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VAY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GRADO, DISG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DÉN ,INCREDU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E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AMADA, PREGUNTA, ADVER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RESIONES LATI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CESSIT: mención honor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DDENDA: apéndice a un lib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AS: por otro nombre, 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OSTERIORI: con pos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RIORI: con an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IS: dos ve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URRÍCULUM VÍTAE: relación de datos pers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ÉFICIT: f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 PROFESO: intencion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ROSSO MODO: aproxim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 EXTREMIS: en situaciones extr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ÁXIME: princip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TA BENE (N.B.): obser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 CÁPITA: individu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ÓRUM: número de individuos necesario para que pueda tomarse un acuer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ÁVIT: cantidad que sobrepasa la de los ga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LTIMÁTUM: resolución defini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OX POPULI: de dominio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GRAFÍAS Y/LL-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ETRÁS DE LOS PREFIJOS AD-, DIS- , SUB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QUE TIENEN SÍLABA  -YEC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CON INFINITIVO SIN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L FINAL DE PALABRA EN UN DIPTONGO O TRIPTO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TERMINADAS EN –ILLO, -ILLA, - ELLO, -ELLA, -A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ACABADAS –ELLAR, -ILLAR, -ULLAR, -ULL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LABRAS QUE EMPIEZAN POR EL DIPTONGO HUE-, HUI-, HIE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AS FORMAS DE LOS VERBOS HABER, HABLAR, HACER, HALLAR, HAB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LOS ELEMENTOS COMPOSITIVOS HECTO-, HEPTA-, HEMI-, HETERO- ,HOMO-, HEXA- , HIPER-, HIPO-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CTÁ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LIOMO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ICIC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XAED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DROAV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ERHIDR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OGLUC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OMOGÉN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06:06Z</dcterms:created>
  <dc:creator>AUDIOLEASK</dc:creator>
  <dc:description/>
  <dc:language>en-US</dc:language>
  <cp:lastModifiedBy>AUDIOLEASK</cp:lastModifiedBy>
  <dcterms:modified xsi:type="dcterms:W3CDTF">2013-11-10T21:26:12Z</dcterms:modified>
  <cp:revision>2</cp:revision>
  <dc:subject/>
  <dc:title>TEMA 2</dc:title>
</cp:coreProperties>
</file>