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A23-10EB-4AD9-A1DB-D866ED7A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CD3-1AE3-41C9-A89C-53538049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670-9E96-4A57-9F6B-C4A057D1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BAA-02FC-4A39-8B49-14A01CF0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4375-D5DB-49D5-BDE6-36D25B13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871F-859C-4A95-9A32-3F7ECC3F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1C15-A6F1-48B4-82EF-E58D592D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1FAB-7019-4124-AE1C-7AA24D0D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91E1-6D32-4C52-9B17-4E75C996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E03B-5CE5-41C2-9361-85CF3D8E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EDEA-A02E-4CA5-A26E-D4CA90C5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4C1-6CBB-4C79-AEB7-31B4E8B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2944-903B-47C1-A473-5395B3EB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1A63-496C-4585-BFCE-90A0F702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91E2-2A49-4BDC-A912-5B10AA74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B6B6-C60A-440D-8D40-2966A9DE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60BA-FF66-4A6C-A2E0-07477D55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DAD-4B1A-49EC-9E8B-132A4DAE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9F0-B71E-4E8A-8AD0-247161FC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230-F556-415E-ABF2-45F9EF61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2D0-6790-41EA-B818-6944D56E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538-3FC0-4262-8C2A-F83A5FB0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3EA-28F8-41F5-A9C5-7EF567CC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B8D-CCCA-461D-BA62-7CBE0088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CFAE-EC55-416F-9BDD-0D6A6FCAB1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A762-D4DF-4203-8BC2-B44955FEBA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Romeo_und_Julie" TargetMode="External"/><Relationship Id="rId2" Type="http://schemas.openxmlformats.org/officeDocument/2006/relationships/hyperlink" Target="http://es.wikipedia.org/wiki/Romeo_und_Julie" TargetMode="External"/><Relationship Id="rId3" Type="http://schemas.openxmlformats.org/officeDocument/2006/relationships/hyperlink" Target="http://es.wikipedia.org/wiki/Romeo_und_Julie" TargetMode="External"/><Relationship Id="rId4" Type="http://schemas.openxmlformats.org/officeDocument/2006/relationships/hyperlink" Target="http://es.wikipedia.org/wiki/Romeo_und_Julie" TargetMode="External"/><Relationship Id="rId5" Type="http://schemas.openxmlformats.org/officeDocument/2006/relationships/hyperlink" Target="http://es.wikipedia.org/wiki/1776" TargetMode="External"/><Relationship Id="rId6" Type="http://schemas.openxmlformats.org/officeDocument/2006/relationships/hyperlink" Target="http://es.wikipedia.org/wiki/Ji&#345;&#237;_Anton&#237;n_Benda" TargetMode="External"/><Relationship Id="rId7" Type="http://schemas.openxmlformats.org/officeDocument/2006/relationships/hyperlink" Target="http://es.wikipedia.org/wiki/Ji&#345;&#237;_Anton&#237;n_Benda" TargetMode="External"/><Relationship Id="rId8" Type="http://schemas.openxmlformats.org/officeDocument/2006/relationships/hyperlink" Target="http://es.wikipedia.org/wiki/Ji&#345;&#237;_Anton&#237;n_Benda" TargetMode="Externa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OMEO Y JULIETA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5715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luencia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Músic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l menos unas veinticuatro óperas se han basado en </a:t>
            </a: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  La más antigua,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Romeo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und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 Julie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, apareció en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1776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al estilo de singspiel (pequeña ópera popular) por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Georg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Bend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ha influido a varias producciones de jazz, entre las cuales sobresalen la interpretación de 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eggy Le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specto a parodias,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fue satirizada en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Las Dos Furiosas Mujeres de Abingdon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1598) de Henry Porter, y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Blurt, Master Constable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607) de Thomas Dekker, específicamente en la escena del balcón, donde una heroína virgen recita palabras indecentes.  Desde otra perspectiva, la obra shakesperiana influenció también a ciertos trabajos literarios, destacándose el texto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Nicholas Nickleby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de Charles Dick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a primera ilustración conocida representa la escena del balcón,  que se atribuye a Elisha Kirkal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NE Y TELEVISIÓ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el cine destacamos la grabación de cine mudo aportada por Georges Méliès, cuya grabación no se ha conservado y tres cintas más: la de George Cukor, la de Franco Zeffirelli y la de Baz Luhrmann, posiblemente siendo actualmente esta última la más conocida por estar protagonizada por Leonardo Di Caprio y Claire Danes, y por plasmar una sociedad más cercana a la actual. Mención especial debemos hacer de la película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Shakespeare in lov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donde además de reflejar la trama de la obra de Shakespeare, vemos la época, el concepto de teatro y la sociedad.        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1333800" cy="1904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0" y="4508640"/>
            <a:ext cx="1285920" cy="190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095880" y="429264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597) es una tragedia de Willian Shakespeare. Cuenta la historia de dos jóvenes enamorados que, a pesar de la oposición de sus familias, rivales entre sí, deciden casarse de forma clandestina y vivir juntos; sin embargo, la presión de esa rivalidad y una serie de fatalidades conducen al suicidio de los dos amantes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muerte de ambos, sin embargo, supone la reconciliación de las dos familias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jes de la ob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1810" t="19196" r="39857" b="34700"/>
          <a:stretch/>
        </p:blipFill>
        <p:spPr>
          <a:xfrm>
            <a:off x="0" y="2077920"/>
            <a:ext cx="9144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GUMENTO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a ciudad de Verona existen dos familias rivales que mantiene un rencor antiguo que involucra hasta ajenos a las familias como Paris y Mercucio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dos únicos descendientes de cada familia Romeo y Julieta se ven por primera vez en una reunión y se enamoran perdidamente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amantes se ven obligadamente a escondidas la segunda vez, a la tercera vez se casan en secreto gracias al Fraile Lorenzo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co después de la boda en un enfrentamiento entre Montescos y Capuletos muere el mejor amigo de Romeo, Mercucio en manos del sobrino de Capuleto, Teobaldo, Romeo en venganza le da muerte a este, el príncipe condena a Romeo al destierro a Mantua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cuarta vez que los enamorados se ven consuman su noche de bodas, el padre de Julieta planea el matrimonio con el caballero Paris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Fray Lorenzo crea un plan para salvar el amor de Romeo y Julieta, ella beberá una poción en una ampolleta que la hará parecer muerta durante 42 horas, ella cumple el plan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ensajero de Fray Lorenzo fracasa en el camino para avisar a Romeo el plan, este se entera de la supuesta muerte de Julieta y decide regresar a Verona para morir junto a la tumba de su amada.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se encuentran Romeo y Paris, se enfrentan y Paris muere, Romeo bebe un veneno antes que Fray Lorenzo lo evite y que Julieta despierte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lieta despierta y Fray Lorenzo le explica la situación, los guardias ahuyentan al Fraile y Julieta toma la daga de Romeo y se suicida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Fray Lorenzo cuenta la historia y finalmente parece que las familias harán la paz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A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Odio: el enfrentamiento que mantienen Capuletos y Montescos enmarca la relación extraordinaria entre Romeo y Juliet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Amor: la pasión que manejan los amantes es desbordante y frenética, se puede observar en el corto periodo de seis días donde se enamoran, se casan, tienen su noche de bodas y sucede la tragedi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Tragedia: el amor entre Romeo y Julieta es trágico desde el principio al ser obligados a encontrasen a escondidas y como una burla del destino de estos dos el fallido plan con desenlace fatal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5:17:36Z</dcterms:created>
  <dc:creator>Francisco</dc:creator>
  <dc:description/>
  <dc:language>en-US</dc:language>
  <cp:lastModifiedBy>Francisco</cp:lastModifiedBy>
  <dcterms:modified xsi:type="dcterms:W3CDTF">2013-11-13T15:03:27Z</dcterms:modified>
  <cp:revision>3</cp:revision>
  <dc:subject/>
  <dc:title>ROMEO Y JULIETA:</dc:title>
</cp:coreProperties>
</file>