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FDC8-264E-4A46-9952-5CC0AE71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1798-9A3B-4944-882E-F069E27B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798D-0518-4C15-B1F0-7EA74FB1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0FD-A7E5-4293-BE3E-58BB2A15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0F6F-9D1F-4D7E-B7BC-9401B60E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A5A4-A92A-478C-98E1-5FFDF4BF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C6B3-89AF-4343-89AF-39F0CE0A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4405-71C4-4F47-8BA9-6484CEC1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E726-8433-4BCE-9788-90D7E785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B6F2-2910-4DA4-8A8F-073D9EBF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46F0-BAC6-4584-A35F-909D6D76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B04A-1687-44AE-99BE-A440CE58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A8FB-3176-4D1D-B102-FD358E9C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2ECE-17B8-40EA-B473-D78584B3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DB8E-BE84-4314-B3DE-B9FEAD18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04CF-3D55-48E4-B36A-269AC572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0599-A3DD-4BAF-83CE-324214EF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BD56-3272-4543-8B42-255044A4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E410-D985-4A15-9DC8-A4AB19E8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4ACC-4711-4776-81D2-54A08BAA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0D5-A40F-4C80-BA8E-38562863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23D6-6B1E-4D7E-94BE-4D364F31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F5F0-D990-4681-8812-398CC453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5FFB-02C2-4B59-9C37-454314ED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8923-040F-4633-864F-C44CF75B07E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A951-EB61-4283-B5BA-20BDB077B69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s.wikipedia.org/wiki/Romeo_und_Julie" TargetMode="External"/><Relationship Id="rId2" Type="http://schemas.openxmlformats.org/officeDocument/2006/relationships/hyperlink" Target="http://es.wikipedia.org/wiki/Romeo_und_Julie" TargetMode="External"/><Relationship Id="rId3" Type="http://schemas.openxmlformats.org/officeDocument/2006/relationships/hyperlink" Target="http://es.wikipedia.org/wiki/Romeo_und_Julie" TargetMode="External"/><Relationship Id="rId4" Type="http://schemas.openxmlformats.org/officeDocument/2006/relationships/hyperlink" Target="http://es.wikipedia.org/wiki/Romeo_und_Julie" TargetMode="External"/><Relationship Id="rId5" Type="http://schemas.openxmlformats.org/officeDocument/2006/relationships/hyperlink" Target="http://es.wikipedia.org/wiki/1776" TargetMode="External"/><Relationship Id="rId6" Type="http://schemas.openxmlformats.org/officeDocument/2006/relationships/hyperlink" Target="http://es.wikipedia.org/wiki/Ji&#345;&#237;_Anton&#237;n_Benda" TargetMode="External"/><Relationship Id="rId7" Type="http://schemas.openxmlformats.org/officeDocument/2006/relationships/hyperlink" Target="http://es.wikipedia.org/wiki/Ji&#345;&#237;_Anton&#237;n_Benda" TargetMode="External"/><Relationship Id="rId8" Type="http://schemas.openxmlformats.org/officeDocument/2006/relationships/hyperlink" Target="http://es.wikipedia.org/wiki/Ji&#345;&#237;_Anton&#237;n_Benda" TargetMode="External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OMEO Y JULIETA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19280" y="3645000"/>
            <a:ext cx="5715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luencias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Músic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l menos unas veinticuatro óperas se han basado en </a:t>
            </a:r>
            <a:r>
              <a:rPr b="0" i="1" lang="es-ES" sz="2800" spc="-1" strike="noStrike">
                <a:solidFill>
                  <a:srgbClr val="000000"/>
                </a:solidFill>
                <a:latin typeface="Comic Sans MS"/>
              </a:rPr>
              <a:t>Romeo y Julieta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.  La más antigua, 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Romeo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 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und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 Julie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, apareció en 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1776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 al estilo de singspiel (pequeña ópera popular) por 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Georg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 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Benda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omic Sans MS"/>
              </a:rPr>
              <a:t>Romeo y Julieta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 ha influido a varias producciones de jazz, entre las cuales sobresalen la interpretación de 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Peggy Le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TERATURA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specto a parodias, 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Romeo y Julieta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 fue satirizada en 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Las Dos Furiosas Mujeres de Abingdon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(1598) de Henry Porter, y 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Blurt, Master Constable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 (1607) de Thomas Dekker, específicamente en la escena del balcón, donde una heroína virgen recita palabras indecentes.  Desde otra perspectiva, la obra shakesperiana influenció también a ciertos trabajos literarios, destacándose el texto 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Nicholas Nickleby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, de Charles Dicke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a primera ilustración conocida representa la escena del balcón,  que se atribuye a Elisha Kirkal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INE Y TELEVISIÓ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n el cine destacamos la grabación de cine mudo aportada por Georges Méliès, cuya grabación no se ha conservado y tres cintas más: la de George Cukor, la de Franco Zeffirelli y la de Baz Luhrmann, posiblemente siendo actualmente esta última la más conocida por estar protagonizada por Leonardo Di Caprio y Claire Danes, y por plasmar una sociedad más cercana a la actual. Mención especial debemos hacer de la película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</a:rPr>
              <a:t>Shakespeare in love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, donde además de reflejar la trama de la obra de Shakespeare, vemos la época, el concepto de teatro y la sociedad.        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771640" y="4508640"/>
            <a:ext cx="1333800" cy="1904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72000" y="4508640"/>
            <a:ext cx="1285920" cy="1904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095880" y="429264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Romeo y Julieta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 (1597) es una tragedia de Willian Shakespeare. Cuenta la historia de dos jóvenes enamorados que, a pesar de la oposición de sus familias, rivales entre sí, deciden casarse de forma clandestina y vivir juntos; sin embargo, la presión de esa rivalidad y una serie de fatalidades conducen al suicidio de los dos amantes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 muerte de ambos, sin embargo, supone la reconciliación de las dos familias.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sonajes de la obra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11810" t="19196" r="39857" b="34700"/>
          <a:stretch/>
        </p:blipFill>
        <p:spPr>
          <a:xfrm>
            <a:off x="0" y="2077920"/>
            <a:ext cx="914400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GUMENTO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la ciudad de Verona existen dos familias rivales que mantiene un rencor antiguo que involucra hasta ajenos a las familias como Paris y Mercucio. 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dos únicos descendientes de cada familia Romeo y Julieta se ven por primera vez en una reunión y se enamoran perdidamente. 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amantes se ven obligadamente a escondidas la segunda vez, a la tercera vez se casan en secreto gracias al Fraile Lorenzo.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co después de la boda en un enfrentamiento entre Montescos y Capuletos muere el mejor amigo de Romeo, Mercucio en manos del sobrino de Capuleto, Teobaldo, Romeo en venganza le da muerte a este, el príncipe condena a Romeo al destierro a Mantua. 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cuarta vez que los enamorados se ven consuman su noche de bodas, el padre de Julieta planea el matrimonio con el caballero Paris. 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Fray Lorenzo crea un plan para salvar el amor de Romeo y Julieta, ella beberá una poción en una ampolleta que la hará parecer muerta durante 42 horas, ella cumple el plan. 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mensajero de Fray Lorenzo fracasa en el camino para avisar a Romeo el plan, este se entera de la supuesta muerte de Julieta y decide regresar a Verona para morir junto a la tumba de su amada. 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el cementerio se encuentran Romeo y Paris, se enfrentan y Paris muere, Romeo bebe un veneno antes que Fray Lorenzo lo evite y que Julieta despierte.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lieta despierta y Fray Lorenzo le explica la situación, los guardias ahuyentan al Fraile y Julieta toma la daga de Romeo y se suicida.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el cementerio Fray Lorenzo cuenta la historia y finalmente parece que las familias harán la paz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MA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 Odio: el enfrentamiento que mantienen Capuletos y Montescos enmarca la relación extraordinaria entre Romeo y Julieta. 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 Amor: la pasión que manejan los amantes es desbordante y frenética, se puede observar en el corto periodo de seis días donde se enamoran, se casan, tienen su noche de bodas y sucede la tragedia. 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a Tragedia: el amor entre Romeo y Julieta es trágico desde el principio al ser obligados a encontrasen a escondidas y como una burla del destino de estos dos el fallido plan con desenlace fatal. 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5:17:36Z</dcterms:created>
  <dc:creator>Francisco</dc:creator>
  <dc:description/>
  <dc:language>en-US</dc:language>
  <cp:lastModifiedBy>Francisco</cp:lastModifiedBy>
  <dcterms:modified xsi:type="dcterms:W3CDTF">2013-11-13T15:03:27Z</dcterms:modified>
  <cp:revision>3</cp:revision>
  <dc:subject/>
  <dc:title>ROMEO Y JULIETA:</dc:title>
</cp:coreProperties>
</file>