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B1C-4BBB-423A-899B-95938F95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38A-4C00-48B0-8750-94F502AB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3B5-580D-4B98-8CC5-08348439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9AE-8CC9-4BC9-9C95-ECA09FDE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C4CE-61C8-437F-A2FC-EC7639DB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B2EA-AAE5-4D5A-B2FE-243B768F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FE9C-6544-4172-8DB4-15981483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6124-1CAF-43B4-9817-FCAB746C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10B7-D442-4E62-A15D-4DFDC958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15D-F3F6-4AD1-9D8B-B41A06AA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F737-7A78-4EF6-BD77-4158A63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C87-1E8A-4FCB-AA93-48660267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912E-D38A-4340-8A4A-DC49C80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765C-45C9-4CB0-8E16-767FD33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DED6-F61E-4B23-882A-D6135468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2FFD-D877-4614-98D1-5276BE9E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65D-EE88-4FE5-AE30-D13030F5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151-C0AE-4E9E-9B9C-3C7ED095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C6-9094-49D0-9C7F-003794EA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BF6-5DF2-4F2F-A572-2E338B6F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08C-77CC-4747-9441-01972099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10F-4F4A-43D0-8E82-E93F97F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976-37C9-4D5D-B970-DDE3B57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2E5-2334-4B2F-9046-D4CCE51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BCAE-4450-40A2-84A2-89A73B7587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DEC-8D35-44BF-8047-38B414D0B9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omeo_und_Julie" TargetMode="External"/><Relationship Id="rId2" Type="http://schemas.openxmlformats.org/officeDocument/2006/relationships/hyperlink" Target="http://es.wikipedia.org/wiki/Romeo_und_Julie" TargetMode="External"/><Relationship Id="rId3" Type="http://schemas.openxmlformats.org/officeDocument/2006/relationships/hyperlink" Target="http://es.wikipedia.org/wiki/Romeo_und_Julie" TargetMode="External"/><Relationship Id="rId4" Type="http://schemas.openxmlformats.org/officeDocument/2006/relationships/hyperlink" Target="http://es.wikipedia.org/wiki/Romeo_und_Julie" TargetMode="External"/><Relationship Id="rId5" Type="http://schemas.openxmlformats.org/officeDocument/2006/relationships/hyperlink" Target="http://es.wikipedia.org/wiki/1776" TargetMode="External"/><Relationship Id="rId6" Type="http://schemas.openxmlformats.org/officeDocument/2006/relationships/hyperlink" Target="http://es.wikipedia.org/wiki/Ji&#345;&#237;_Anton&#237;n_Benda" TargetMode="External"/><Relationship Id="rId7" Type="http://schemas.openxmlformats.org/officeDocument/2006/relationships/hyperlink" Target="http://es.wikipedia.org/wiki/Ji&#345;&#237;_Anton&#237;n_Benda" TargetMode="External"/><Relationship Id="rId8" Type="http://schemas.openxmlformats.org/officeDocument/2006/relationships/hyperlink" Target="http://es.wikipedia.org/wiki/Ji&#345;&#237;_Anton&#237;n_Benda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MEO Y JULIETA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5715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luencia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menos unas veinticuatro óperas se han basado en 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  La más antigua,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omeo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und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Juli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apareció en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1776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al estilo de singspiel (pequeña ópera popular) por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Georg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Bend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ha influido a varias producciones de jazz, entre las cuales sobresalen la interpretación de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ggy Le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ecto a parodias,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fue satirizada en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Las Dos Furiosas Mujeres de Abingdo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1598) de Henry Porter, y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Blurt, Master Constabl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607) de Thomas Dekker, específicamente en la escena del balcón, donde una heroína virgen recita palabras indecentes.  Desde otra perspectiva, la obra shakesperiana influenció también a ciertos trabajos literarios, destacándose el texto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Nicholas Nickleby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de Charles Dick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primera ilustración conocida representa la escena del balcón,  que se atribuye a Elisha Kirk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NE Y TELEVISIÓ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cine destacamos la grabación de cine mudo aportada por Georges Méliès, cuya grabación no se ha conservado y tres cintas más: la de George Cukor, la de Franco Zeffirelli y la de Baz Luhrmann, posiblemente siendo actualmente esta última la más conocida por estar protagonizada por Leonardo Di Caprio y Claire Danes, y por plasmar una sociedad más cercana a la actual. Mención especial debemos hacer de la película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Shakespeare in lov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donde además de reflejar la trama de la obra de Shakespeare, vemos la época, el concepto de teatro y la sociedad.        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1333800" cy="1904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2859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95880" y="429264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597) es una tragedia de Willian Shakespeare. Cuenta la historia de dos jóvenes enamorados que, a pesar de la oposición de sus familias, rivales entre sí, deciden casarse de forma clandestina y vivir juntos; sin embargo, la presión de esa rivalidad y una serie de fatalidades conducen al suicidio de los dos amante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muerte de ambos, sin embargo, supone la reconciliación de las dos famili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jes de la ob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1810" t="19196" r="39857" b="34700"/>
          <a:stretch/>
        </p:blipFill>
        <p:spPr>
          <a:xfrm>
            <a:off x="0" y="207792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GUMENTO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ciudad de Verona existen dos familias rivales que mantiene un rencor antiguo que involucra hasta ajenos a las familias como Paris y Mercucio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os únicos descendientes de cada familia Romeo y Julieta se ven por primera vez en una reunión y se enamoran perdidamente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amantes se ven obligadamente a escondidas la segunda vez, a la tercera vez se casan en secreto gracias al Fraile Lorenzo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co después de la boda en un enfrentamiento entre Montescos y Capuletos muere el mejor amigo de Romeo, Mercucio en manos del sobrino de Capuleto, Teobaldo, Romeo en venganza le da muerte a este, el príncipe condena a Romeo al destierro a Mantua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uarta vez que los enamorados se ven consuman su noche de bodas, el padre de Julieta planea el matrimonio con el caballero Paris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Fray Lorenzo crea un plan para salvar el amor de Romeo y Julieta, ella beberá una poción en una ampolleta que la hará parecer muerta durante 42 horas, ella cumple el plan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ro de Fray Lorenzo fracasa en el camino para avisar a Romeo el plan, este se entera de la supuesta muerte de Julieta y decide regresar a Verona para morir junto a la tumba de su amada.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se encuentran Romeo y Paris, se enfrentan y Paris muere, Romeo bebe un veneno antes que Fray Lorenzo lo evite y que Julieta despierte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lieta despierta y Fray Lorenzo le explica la situación, los guardias ahuyentan al Fraile y Julieta toma la daga de Romeo y se suicida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Fray Lorenzo cuenta la historia y finalmente parece que las familias harán la pa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A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Odio: el enfrentamiento que mantienen Capuletos y Montescos enmarca la relación extraordinaria entre Romeo y Juliet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mor: la pasión que manejan los amantes es desbordante y frenética, se puede observar en el corto periodo de seis días donde se enamoran, se casan, tienen su noche de bodas y sucede la tragedi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ragedia: el amor entre Romeo y Julieta es trágico desde el principio al ser obligados a encontrasen a escondidas y como una burla del destino de estos dos el fallido plan con desenlace fatal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5:17:36Z</dcterms:created>
  <dc:creator>Francisco</dc:creator>
  <dc:description/>
  <dc:language>en-US</dc:language>
  <cp:lastModifiedBy>Francisco</cp:lastModifiedBy>
  <dcterms:modified xsi:type="dcterms:W3CDTF">2013-11-13T15:03:27Z</dcterms:modified>
  <cp:revision>3</cp:revision>
  <dc:subject/>
  <dc:title>ROMEO Y JULIETA:</dc:title>
</cp:coreProperties>
</file>