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D339-59CA-44FF-BC61-689D0F231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4D83-2680-4BDD-B617-A40D1D96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4D80-60DB-41F1-81F1-8B45C954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70F4-2FE8-41D5-B566-2826C98D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F071-32E2-4C45-A67F-57694F92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E94B-D5A0-4199-978A-D6BAE9C9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1A11-0345-4325-9BDA-FDC7453C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5ADA-861B-4827-9153-67B02557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E11A-F453-45E7-81BF-16786722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E6E7-E191-4204-8731-0C2EA3C6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F813-AE57-4AC7-93AB-6551612F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BDC9-59BD-4812-B4DF-82817A20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73A9-E160-4239-B66F-F43F471A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C9C4-6B47-404E-B2EA-FE9129F1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713C-81CD-4EC3-A890-1B1E6107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B245-ECAD-4B12-8BA0-847098291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CA29-2D2B-4AED-9AB8-2800B52E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DD36-8006-435C-A313-69ABA2FF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EE87-9157-44A5-9529-BE3B5E4A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64A0-53B7-43D9-9283-88C14D43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4823-0328-4BCB-954F-BA386E86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68B7-E18F-4209-AFFF-CAB80E0F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0885-B2BF-4993-88CC-7383641F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DDED-5E61-48E1-BB8C-18582FEE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85E4-E20F-40F9-965D-B0E71D1B8D4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5D02-2A55-4E54-95EF-2A7FC27AC4B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s.wikipedia.org/wiki/Romeo_und_Julie" TargetMode="External"/><Relationship Id="rId2" Type="http://schemas.openxmlformats.org/officeDocument/2006/relationships/hyperlink" Target="http://es.wikipedia.org/wiki/Romeo_und_Julie" TargetMode="External"/><Relationship Id="rId3" Type="http://schemas.openxmlformats.org/officeDocument/2006/relationships/hyperlink" Target="http://es.wikipedia.org/wiki/Romeo_und_Julie" TargetMode="External"/><Relationship Id="rId4" Type="http://schemas.openxmlformats.org/officeDocument/2006/relationships/hyperlink" Target="http://es.wikipedia.org/wiki/Romeo_und_Julie" TargetMode="External"/><Relationship Id="rId5" Type="http://schemas.openxmlformats.org/officeDocument/2006/relationships/hyperlink" Target="http://es.wikipedia.org/wiki/1776" TargetMode="External"/><Relationship Id="rId6" Type="http://schemas.openxmlformats.org/officeDocument/2006/relationships/hyperlink" Target="http://es.wikipedia.org/wiki/Ji&#345;&#237;_Anton&#237;n_Benda" TargetMode="External"/><Relationship Id="rId7" Type="http://schemas.openxmlformats.org/officeDocument/2006/relationships/hyperlink" Target="http://es.wikipedia.org/wiki/Ji&#345;&#237;_Anton&#237;n_Benda" TargetMode="External"/><Relationship Id="rId8" Type="http://schemas.openxmlformats.org/officeDocument/2006/relationships/hyperlink" Target="http://es.wikipedia.org/wiki/Ji&#345;&#237;_Anton&#237;n_Benda" TargetMode="External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OMEO Y JULIETA: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619280" y="3645000"/>
            <a:ext cx="5715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luencias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Músic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Al menos unas veinticuatro óperas se han basado en </a:t>
            </a:r>
            <a:r>
              <a:rPr b="0" i="1" lang="es-ES" sz="2800" spc="-1" strike="noStrike">
                <a:solidFill>
                  <a:srgbClr val="000000"/>
                </a:solidFill>
                <a:latin typeface="Comic Sans MS"/>
              </a:rPr>
              <a:t>Romeo y Julieta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.  La más antigua, 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Romeo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 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und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 Julie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, apareció en 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1776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 al estilo de singspiel (pequeña ópera popular) por 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Georg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7"/>
              </a:rPr>
              <a:t> 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8"/>
              </a:rPr>
              <a:t>Benda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omic Sans MS"/>
              </a:rPr>
              <a:t>Romeo y Julieta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 ha influido a varias producciones de jazz, entre las cuales sobresalen la interpretación de 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Peggy Le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TERATURA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especto a parodias, 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Romeo y Julieta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 fue satirizada en 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Las Dos Furiosas Mujeres de Abingdon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(1598) de Henry Porter, y 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Blurt, Master Constable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 (1607) de Thomas Dekker, específicamente en la escena del balcón, donde una heroína virgen recita palabras indecentes.  Desde otra perspectiva, la obra shakesperiana influenció también a ciertos trabajos literarios, destacándose el texto 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Nicholas Nickleby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, de Charles Dicke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T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a primera ilustración conocida representa la escena del balcón,  que se atribuye a Elisha Kirkal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INE Y TELEVISIÓN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n el cine destacamos la grabación de cine mudo aportada por Georges Méliès, cuya grabación no se ha conservado y tres cintas más: la de George Cukor, la de Franco Zeffirelli y la de Baz Luhrmann, posiblemente siendo actualmente esta última la más conocida por estar protagonizada por Leonardo Di Caprio y Claire Danes, y por plasmar una sociedad más cercana a la actual. Mención especial debemos hacer de la película</a:t>
            </a:r>
            <a:r>
              <a:rPr b="0" i="1" lang="es-ES" sz="2000" spc="-1" strike="noStrike">
                <a:solidFill>
                  <a:srgbClr val="000000"/>
                </a:solidFill>
                <a:latin typeface="Comic Sans MS"/>
              </a:rPr>
              <a:t>Shakespeare in love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, donde además de reflejar la trama de la obra de Shakespeare, vemos la época, el concepto de teatro y la sociedad.        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771640" y="4508640"/>
            <a:ext cx="1333800" cy="19047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572000" y="4508640"/>
            <a:ext cx="1285920" cy="1904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095880" y="429264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Romeo y Julieta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 (1597) es una tragedia de Willian Shakespeare. Cuenta la historia de dos jóvenes enamorados que, a pesar de la oposición de sus familias, rivales entre sí, deciden casarse de forma clandestina y vivir juntos; sin embargo, la presión de esa rivalidad y una serie de fatalidades conducen al suicidio de los dos amantes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La muerte de ambos, sin embargo, supone la reconciliación de las dos familias.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sonajes de la obra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11810" t="19196" r="39857" b="34700"/>
          <a:stretch/>
        </p:blipFill>
        <p:spPr>
          <a:xfrm>
            <a:off x="0" y="2077920"/>
            <a:ext cx="914400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GUMENTO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 la ciudad de Verona existen dos familias rivales que mantiene un rencor antiguo que involucra hasta ajenos a las familias como Paris y Mercucio. 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s dos únicos descendientes de cada familia Romeo y Julieta se ven por primera vez en una reunión y se enamoran perdidamente. 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s amantes se ven obligadamente a escondidas la segunda vez, a la tercera vez se casan en secreto gracias al Fraile Lorenzo. 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oco después de la boda en un enfrentamiento entre Montescos y Capuletos muere el mejor amigo de Romeo, Mercucio en manos del sobrino de Capuleto, Teobaldo, Romeo en venganza le da muerte a este, el príncipe condena a Romeo al destierro a Mantua. 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a cuarta vez que los enamorados se ven consuman su noche de bodas, el padre de Julieta planea el matrimonio con el caballero Paris. 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Fray Lorenzo crea un plan para salvar el amor de Romeo y Julieta, ella beberá una poción en una ampolleta que la hará parecer muerta durante 42 horas, ella cumple el plan. 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l mensajero de Fray Lorenzo fracasa en el camino para avisar a Romeo el plan, este se entera de la supuesta muerte de Julieta y decide regresar a Verona para morir junto a la tumba de su amada. 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 el cementerio se encuentran Romeo y Paris, se enfrentan y Paris muere, Romeo bebe un veneno antes que Fray Lorenzo lo evite y que Julieta despierte. 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ulieta despierta y Fray Lorenzo le explica la situación, los guardias ahuyentan al Fraile y Julieta toma la daga de Romeo y se suicida. 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 el cementerio Fray Lorenzo cuenta la historia y finalmente parece que las familias harán la paz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MA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l Odio: el enfrentamiento que mantienen Capuletos y Montescos enmarca la relación extraordinaria entre Romeo y Julieta. 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l Amor: la pasión que manejan los amantes es desbordante y frenética, se puede observar en el corto periodo de seis días donde se enamoran, se casan, tienen su noche de bodas y sucede la tragedia. 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La Tragedia: el amor entre Romeo y Julieta es trágico desde el principio al ser obligados a encontrasen a escondidas y como una burla del destino de estos dos el fallido plan con desenlace fatal. 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1T15:17:36Z</dcterms:created>
  <dc:creator>Francisco</dc:creator>
  <dc:description/>
  <dc:language>en-US</dc:language>
  <cp:lastModifiedBy>Francisco</cp:lastModifiedBy>
  <dcterms:modified xsi:type="dcterms:W3CDTF">2013-11-13T15:03:27Z</dcterms:modified>
  <cp:revision>3</cp:revision>
  <dc:subject/>
  <dc:title>ROMEO Y JULIETA:</dc:title>
</cp:coreProperties>
</file>